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A781-B704-4CAE-A33E-10AE826D3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6B52-0E90-4DF2-BE53-DF9453E46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5A3D-7DA1-470C-A9BB-D66430009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9114-250A-4D88-A748-E508042C9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570C-C7B1-49F0-BAD0-FC20BBBB3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824E-0515-4822-BE84-D8BD14965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46E4-85C6-4E34-8250-B860E1FA4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8E35-C8C7-49C0-A279-F602AEF14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9211-60A0-4C85-AE27-A22CBB7A9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3571-1FB0-4D9E-8966-D7A2AC094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EA52-67F8-433F-93DB-384E7BB4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2AE7-AEC9-49E2-B245-1FD5A3C5E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1493A-76DA-4F86-86AB-EBAA428121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0" y="3657600"/>
            <a:ext cx="1600200" cy="2973600"/>
            <a:chOff x="0" y="3657600"/>
            <a:chExt cx="1600200" cy="2973600"/>
          </a:xfrm>
        </p:grpSpPr>
        <p:sp>
          <p:nvSpPr>
            <p:cNvPr id="43" name=""/>
            <p:cNvSpPr/>
            <p:nvPr/>
          </p:nvSpPr>
          <p:spPr>
            <a:xfrm>
              <a:off x="0" y="41911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47545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M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0" y="5288040"/>
              <a:ext cx="1600200" cy="45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ANCOVA-MANC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58212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Medidas Repetid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63547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Ejempl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36576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introduc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00200" y="762120"/>
            <a:ext cx="7543800" cy="6095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19720" y="1752480"/>
            <a:ext cx="4724280" cy="312444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Franklin Gothic Medium Cond"/>
              </a:rPr>
              <a:t>Análisis d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Franklin Gothic Medium Cond"/>
              </a:rPr>
              <a:t>la Varianz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Franklin Gothic Medium Cond"/>
              </a:rPr>
              <a:t>Aplicaciones 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Franklin Gothic Medium Cond"/>
              </a:rPr>
              <a:t>estudio de da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Franklin Gothic Medium Cond"/>
              </a:rPr>
              <a:t>experimen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3000" y="223920"/>
            <a:ext cx="415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Franklin Gothic Medium Cond"/>
              </a:rPr>
              <a:t>Investigación de Mercados 2. Tema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600200" y="762120"/>
            <a:ext cx="7543800" cy="6095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22520" y="223920"/>
            <a:ext cx="697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Franklin Gothic Medium Cond"/>
              </a:rPr>
              <a:t>ANOVA: Análisis Univariable de la Varianza: </a:t>
            </a:r>
            <a:r>
              <a:rPr b="0" lang="en-US" sz="1800" spc="-1" strike="noStrike">
                <a:solidFill>
                  <a:srgbClr val="ff9900"/>
                </a:solidFill>
                <a:latin typeface="Franklin Gothic Medium Cond"/>
              </a:rPr>
              <a:t>ANOVA con 1 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1143000"/>
            <a:ext cx="6858000" cy="685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Mod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0" y="3657600"/>
            <a:ext cx="1600200" cy="2973600"/>
            <a:chOff x="0" y="3657600"/>
            <a:chExt cx="1600200" cy="2973600"/>
          </a:xfrm>
        </p:grpSpPr>
        <p:sp>
          <p:nvSpPr>
            <p:cNvPr id="263" name=""/>
            <p:cNvSpPr/>
            <p:nvPr/>
          </p:nvSpPr>
          <p:spPr>
            <a:xfrm>
              <a:off x="0" y="41911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0" y="47545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M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0" y="5288040"/>
              <a:ext cx="1600200" cy="45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ANCOVA-MANC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0" y="58212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Medidas Repetid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0" y="63547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Ejempl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0" y="36576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9900"/>
                  </a:solidFill>
                  <a:latin typeface="Franklin Gothic Medium Cond"/>
                </a:rPr>
                <a:t>introduc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0" y="3657600"/>
            <a:ext cx="1600200" cy="810000"/>
            <a:chOff x="0" y="3657600"/>
            <a:chExt cx="1600200" cy="810000"/>
          </a:xfrm>
        </p:grpSpPr>
        <p:sp>
          <p:nvSpPr>
            <p:cNvPr id="270" name=""/>
            <p:cNvSpPr/>
            <p:nvPr/>
          </p:nvSpPr>
          <p:spPr>
            <a:xfrm>
              <a:off x="0" y="41911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9900"/>
                  </a:solidFill>
                  <a:latin typeface="Franklin Gothic Medium Cond"/>
                </a:rPr>
                <a:t>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0" y="36576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introduc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286000" y="2057400"/>
            <a:ext cx="6715440" cy="4572000"/>
            <a:chOff x="2286000" y="2057400"/>
            <a:chExt cx="6715440" cy="4572000"/>
          </a:xfrm>
        </p:grpSpPr>
        <p:sp>
          <p:nvSpPr>
            <p:cNvPr id="273" name=""/>
            <p:cNvSpPr/>
            <p:nvPr/>
          </p:nvSpPr>
          <p:spPr>
            <a:xfrm>
              <a:off x="2286000" y="2057400"/>
              <a:ext cx="6629400" cy="457200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395840" y="6172200"/>
              <a:ext cx="1605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Población (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2666880" y="3200400"/>
            <a:ext cx="5867640" cy="106668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 Cond"/>
              </a:rPr>
              <a:t>Muestra (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2286000" y="2057400"/>
            <a:ext cx="6629400" cy="4572000"/>
            <a:chOff x="2286000" y="2057400"/>
            <a:chExt cx="6629400" cy="4572000"/>
          </a:xfrm>
        </p:grpSpPr>
        <p:sp>
          <p:nvSpPr>
            <p:cNvPr id="277" name=""/>
            <p:cNvSpPr/>
            <p:nvPr/>
          </p:nvSpPr>
          <p:spPr>
            <a:xfrm>
              <a:off x="2286000" y="2057400"/>
              <a:ext cx="6629400" cy="4572000"/>
            </a:xfrm>
            <a:prstGeom prst="rect">
              <a:avLst/>
            </a:prstGeom>
            <a:solidFill>
              <a:srgbClr val="808080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666880" y="3214800"/>
              <a:ext cx="5867640" cy="106668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Medidas de la variable dependiente ( y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Franklin Gothic Medium Cond"/>
                </a:rPr>
                <a:t>i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5791320" y="4952880"/>
            <a:ext cx="2743200" cy="1371600"/>
            <a:chOff x="5791320" y="4952880"/>
            <a:chExt cx="2743200" cy="1371600"/>
          </a:xfrm>
        </p:grpSpPr>
        <p:sp>
          <p:nvSpPr>
            <p:cNvPr id="280" name=""/>
            <p:cNvSpPr/>
            <p:nvPr/>
          </p:nvSpPr>
          <p:spPr>
            <a:xfrm>
              <a:off x="5791320" y="4952880"/>
              <a:ext cx="2743200" cy="1371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1" name=""/>
                <p:cNvSpPr txBox="1"/>
                <p:nvPr/>
              </p:nvSpPr>
              <p:spPr>
                <a:xfrm>
                  <a:off x="5991120" y="5126040"/>
                  <a:ext cx="2357640" cy="1009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arianza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sup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k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μ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2" name=""/>
          <p:cNvGrpSpPr/>
          <p:nvPr/>
        </p:nvGrpSpPr>
        <p:grpSpPr>
          <a:xfrm>
            <a:off x="2666880" y="4952880"/>
            <a:ext cx="2743200" cy="1371600"/>
            <a:chOff x="2666880" y="4952880"/>
            <a:chExt cx="2743200" cy="1371600"/>
          </a:xfrm>
        </p:grpSpPr>
        <p:sp>
          <p:nvSpPr>
            <p:cNvPr id="283" name=""/>
            <p:cNvSpPr/>
            <p:nvPr/>
          </p:nvSpPr>
          <p:spPr>
            <a:xfrm>
              <a:off x="2666880" y="4952880"/>
              <a:ext cx="2743200" cy="1371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396960" y="5500800"/>
              <a:ext cx="1351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Media =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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Franklin Gothic Medium Cond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85" name=""/>
          <p:cNvCxnSpPr>
            <a:stCxn id="286" idx="2"/>
            <a:endCxn id="280" idx="0"/>
          </p:cNvCxnSpPr>
          <p:nvPr/>
        </p:nvCxnSpPr>
        <p:spPr>
          <a:xfrm flipH="1" rot="16200000">
            <a:off x="6403320" y="4178880"/>
            <a:ext cx="643320" cy="876960"/>
          </a:xfrm>
          <a:prstGeom prst="bentConnector3">
            <a:avLst>
              <a:gd name="adj1" fmla="val 49888"/>
            </a:avLst>
          </a:prstGeom>
          <a:ln w="28440">
            <a:solidFill>
              <a:srgbClr val="000000"/>
            </a:solidFill>
            <a:miter/>
            <a:tailEnd len="med" type="triangle" w="sm"/>
          </a:ln>
        </p:spPr>
      </p:cxnSp>
      <p:cxnSp>
        <p:nvCxnSpPr>
          <p:cNvPr id="287" name=""/>
          <p:cNvCxnSpPr>
            <a:stCxn id="286" idx="2"/>
            <a:endCxn id="283" idx="0"/>
          </p:cNvCxnSpPr>
          <p:nvPr/>
        </p:nvCxnSpPr>
        <p:spPr>
          <a:xfrm rot="5400000">
            <a:off x="4840560" y="3493080"/>
            <a:ext cx="643320" cy="2248920"/>
          </a:xfrm>
          <a:prstGeom prst="bentConnector3">
            <a:avLst>
              <a:gd name="adj1" fmla="val 49888"/>
            </a:avLst>
          </a:prstGeom>
          <a:ln w="28440">
            <a:solidFill>
              <a:srgbClr val="000000"/>
            </a:solidFill>
            <a:miter/>
            <a:tailEnd len="med" type="triangle" w="sm"/>
          </a:ln>
        </p:spPr>
      </p:cxnSp>
      <p:sp>
        <p:nvSpPr>
          <p:cNvPr id="288" name=""/>
          <p:cNvSpPr/>
          <p:nvPr/>
        </p:nvSpPr>
        <p:spPr>
          <a:xfrm>
            <a:off x="2666880" y="1981080"/>
            <a:ext cx="5867640" cy="83844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 Cond"/>
              </a:rPr>
              <a:t>Variable categórica independ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Franklin Gothic Medium Cond"/>
              </a:rPr>
              <a:t>p</a:t>
            </a:r>
            <a:r>
              <a:rPr b="0" lang="es-ES_tradnl" sz="1800" spc="-1" strike="noStrike">
                <a:solidFill>
                  <a:srgbClr val="000000"/>
                </a:solidFill>
                <a:latin typeface="Franklin Gothic Medium Cond"/>
              </a:rPr>
              <a:t> categorías (1, 2, ..., k,..., </a:t>
            </a:r>
            <a:r>
              <a:rPr b="0" i="1" lang="es-ES_tradnl" sz="1800" spc="-1" strike="noStrike">
                <a:solidFill>
                  <a:srgbClr val="000000"/>
                </a:solidFill>
                <a:latin typeface="Franklin Gothic Medium Cond"/>
              </a:rPr>
              <a:t>p</a:t>
            </a:r>
            <a:r>
              <a:rPr b="0" lang="es-ES_tradnl" sz="1800" spc="-1" strike="noStrike">
                <a:solidFill>
                  <a:srgbClr val="000000"/>
                </a:solidFill>
                <a:latin typeface="Franklin Gothic Medium Cond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2666880" y="3214800"/>
            <a:ext cx="5867640" cy="1066680"/>
            <a:chOff x="2666880" y="3214800"/>
            <a:chExt cx="5867640" cy="1066680"/>
          </a:xfrm>
        </p:grpSpPr>
        <p:sp>
          <p:nvSpPr>
            <p:cNvPr id="290" name=""/>
            <p:cNvSpPr/>
            <p:nvPr/>
          </p:nvSpPr>
          <p:spPr>
            <a:xfrm>
              <a:off x="2666880" y="3214800"/>
              <a:ext cx="5867640" cy="1066680"/>
            </a:xfrm>
            <a:prstGeom prst="rect">
              <a:avLst/>
            </a:prstGeom>
            <a:solidFill>
              <a:srgbClr val="808080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666880" y="3214800"/>
              <a:ext cx="1295640" cy="106668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Franklin Gothic Medium Cond"/>
                </a:rPr>
                <a:t>Submuestra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Franklin Gothic Medium Cond"/>
                </a:rPr>
                <a:t>y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Franklin Gothic Medium Cond"/>
                </a:rPr>
                <a:t>i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038480" y="3214800"/>
              <a:ext cx="1295640" cy="106668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Franklin Gothic Medium Cond"/>
                </a:rPr>
                <a:t>Submuestra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Franklin Gothic Medium Cond"/>
                </a:rPr>
                <a:t>y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Franklin Gothic Medium Cond"/>
                </a:rPr>
                <a:t>i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638680" y="3214800"/>
              <a:ext cx="1295640" cy="106668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Franklin Gothic Medium Cond"/>
                </a:rPr>
                <a:t>Submuestra 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Franklin Gothic Medium Cond"/>
                </a:rPr>
                <a:t>y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Franklin Gothic Medium Cond"/>
                </a:rPr>
                <a:t>i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238880" y="3214800"/>
              <a:ext cx="1295640" cy="106668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Franklin Gothic Medium Cond"/>
                </a:rPr>
                <a:t>Submuestra 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Franklin Gothic Medium Cond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Franklin Gothic Medium Cond"/>
                </a:rPr>
                <a:t>y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Franklin Gothic Medium Cond"/>
                </a:rPr>
                <a:t>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94" name=""/>
          <p:cNvCxnSpPr>
            <a:stCxn id="291" idx="2"/>
            <a:endCxn id="280" idx="0"/>
          </p:cNvCxnSpPr>
          <p:nvPr/>
        </p:nvCxnSpPr>
        <p:spPr>
          <a:xfrm flipH="1" rot="16200000">
            <a:off x="4916520" y="2693160"/>
            <a:ext cx="643320" cy="3848760"/>
          </a:xfrm>
          <a:prstGeom prst="bentConnector3">
            <a:avLst>
              <a:gd name="adj1" fmla="val 49888"/>
            </a:avLst>
          </a:prstGeom>
          <a:ln w="28440">
            <a:solidFill>
              <a:srgbClr val="000000"/>
            </a:solidFill>
            <a:prstDash val="sysDot"/>
            <a:miter/>
            <a:tailEnd len="med" type="triangle" w="sm"/>
          </a:ln>
        </p:spPr>
      </p:cxnSp>
      <p:cxnSp>
        <p:nvCxnSpPr>
          <p:cNvPr id="295" name=""/>
          <p:cNvCxnSpPr>
            <a:stCxn id="292" idx="2"/>
            <a:endCxn id="283" idx="0"/>
          </p:cNvCxnSpPr>
          <p:nvPr/>
        </p:nvCxnSpPr>
        <p:spPr>
          <a:xfrm rot="5400000">
            <a:off x="4041000" y="4293360"/>
            <a:ext cx="643320" cy="648360"/>
          </a:xfrm>
          <a:prstGeom prst="bentConnector3">
            <a:avLst>
              <a:gd name="adj1" fmla="val 49888"/>
            </a:avLst>
          </a:prstGeom>
          <a:ln w="28440">
            <a:solidFill>
              <a:srgbClr val="000000"/>
            </a:solidFill>
            <a:prstDash val="sysDot"/>
            <a:miter/>
            <a:tailEnd len="med" type="triangle" w="sm"/>
          </a:ln>
        </p:spPr>
      </p:cxnSp>
      <p:cxnSp>
        <p:nvCxnSpPr>
          <p:cNvPr id="296" name=""/>
          <p:cNvCxnSpPr>
            <a:stCxn id="293" idx="2"/>
            <a:endCxn id="283" idx="0"/>
          </p:cNvCxnSpPr>
          <p:nvPr/>
        </p:nvCxnSpPr>
        <p:spPr>
          <a:xfrm rot="5400000">
            <a:off x="5640840" y="2693160"/>
            <a:ext cx="643320" cy="3849120"/>
          </a:xfrm>
          <a:prstGeom prst="bentConnector3">
            <a:avLst>
              <a:gd name="adj1" fmla="val 49888"/>
            </a:avLst>
          </a:prstGeom>
          <a:ln w="28440">
            <a:solidFill>
              <a:srgbClr val="000000"/>
            </a:solidFill>
            <a:prstDash val="sysDot"/>
            <a:miter/>
            <a:tailEnd len="med" type="triangle" w="sm"/>
          </a:ln>
        </p:spPr>
      </p:cxnSp>
      <p:grpSp>
        <p:nvGrpSpPr>
          <p:cNvPr id="297" name=""/>
          <p:cNvGrpSpPr/>
          <p:nvPr/>
        </p:nvGrpSpPr>
        <p:grpSpPr>
          <a:xfrm>
            <a:off x="3124080" y="2819520"/>
            <a:ext cx="4981680" cy="380880"/>
            <a:chOff x="3124080" y="2819520"/>
            <a:chExt cx="4981680" cy="380880"/>
          </a:xfrm>
        </p:grpSpPr>
        <p:sp>
          <p:nvSpPr>
            <p:cNvPr id="298" name=""/>
            <p:cNvSpPr/>
            <p:nvPr/>
          </p:nvSpPr>
          <p:spPr>
            <a:xfrm>
              <a:off x="3124080" y="2819520"/>
              <a:ext cx="409680" cy="380880"/>
            </a:xfrm>
            <a:prstGeom prst="downArrow">
              <a:avLst>
                <a:gd name="adj1" fmla="val 51935"/>
                <a:gd name="adj2" fmla="val 52083"/>
              </a:avLst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467240" y="2819520"/>
              <a:ext cx="409680" cy="380880"/>
            </a:xfrm>
            <a:prstGeom prst="downArrow">
              <a:avLst>
                <a:gd name="adj1" fmla="val 51935"/>
                <a:gd name="adj2" fmla="val 52083"/>
              </a:avLst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095880" y="2819520"/>
              <a:ext cx="409680" cy="380880"/>
            </a:xfrm>
            <a:prstGeom prst="downArrow">
              <a:avLst>
                <a:gd name="adj1" fmla="val 51935"/>
                <a:gd name="adj2" fmla="val 52083"/>
              </a:avLst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696080" y="2819520"/>
              <a:ext cx="409680" cy="380880"/>
            </a:xfrm>
            <a:prstGeom prst="downArrow">
              <a:avLst>
                <a:gd name="adj1" fmla="val 51935"/>
                <a:gd name="adj2" fmla="val 52083"/>
              </a:avLst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600200" y="762120"/>
            <a:ext cx="7543800" cy="6095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22520" y="223920"/>
            <a:ext cx="697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Franklin Gothic Medium Cond"/>
              </a:rPr>
              <a:t>ANOVA: Análisis Univariable de la Varianza: </a:t>
            </a:r>
            <a:r>
              <a:rPr b="0" lang="en-US" sz="1800" spc="-1" strike="noStrike">
                <a:solidFill>
                  <a:srgbClr val="ff9900"/>
                </a:solidFill>
                <a:latin typeface="Franklin Gothic Medium Cond"/>
              </a:rPr>
              <a:t>ANOVA con 1 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1143000"/>
            <a:ext cx="6858000" cy="685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Mod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0" y="3657600"/>
            <a:ext cx="1600200" cy="2973600"/>
            <a:chOff x="0" y="3657600"/>
            <a:chExt cx="1600200" cy="2973600"/>
          </a:xfrm>
        </p:grpSpPr>
        <p:sp>
          <p:nvSpPr>
            <p:cNvPr id="308" name=""/>
            <p:cNvSpPr/>
            <p:nvPr/>
          </p:nvSpPr>
          <p:spPr>
            <a:xfrm>
              <a:off x="0" y="41911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0" y="47545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M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0" y="5288040"/>
              <a:ext cx="1600200" cy="45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ANCOVA-MANC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0" y="58212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Medidas Repetid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0" y="63547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Ejempl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0" y="36576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9900"/>
                  </a:solidFill>
                  <a:latin typeface="Franklin Gothic Medium Cond"/>
                </a:rPr>
                <a:t>introduc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0" y="3657600"/>
            <a:ext cx="1600200" cy="810000"/>
            <a:chOff x="0" y="3657600"/>
            <a:chExt cx="1600200" cy="810000"/>
          </a:xfrm>
        </p:grpSpPr>
        <p:sp>
          <p:nvSpPr>
            <p:cNvPr id="315" name=""/>
            <p:cNvSpPr/>
            <p:nvPr/>
          </p:nvSpPr>
          <p:spPr>
            <a:xfrm>
              <a:off x="0" y="41911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9900"/>
                  </a:solidFill>
                  <a:latin typeface="Franklin Gothic Medium Cond"/>
                </a:rPr>
                <a:t>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0" y="36576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introduc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2286000" y="2057400"/>
            <a:ext cx="68580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Mod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4002120" y="2279520"/>
                <a:ext cx="316080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9" name=""/>
          <p:cNvSpPr/>
          <p:nvPr/>
        </p:nvSpPr>
        <p:spPr>
          <a:xfrm>
            <a:off x="2286000" y="3276720"/>
            <a:ext cx="68580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Mod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4038480" y="3549600"/>
                <a:ext cx="350532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: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: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≠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≠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≠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≠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21" name=""/>
          <p:cNvSpPr/>
          <p:nvPr/>
        </p:nvSpPr>
        <p:spPr>
          <a:xfrm>
            <a:off x="2286000" y="5029200"/>
            <a:ext cx="68580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Mod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4038480" y="5283360"/>
                <a:ext cx="4496040" cy="109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: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: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  para algún valor de k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600200" y="762120"/>
            <a:ext cx="7543800" cy="6095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22520" y="223920"/>
            <a:ext cx="697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Franklin Gothic Medium Cond"/>
              </a:rPr>
              <a:t>ANOVA: Análisis Univariable de la Varianza: </a:t>
            </a:r>
            <a:r>
              <a:rPr b="0" lang="en-US" sz="1800" spc="-1" strike="noStrike">
                <a:solidFill>
                  <a:srgbClr val="ff9900"/>
                </a:solidFill>
                <a:latin typeface="Franklin Gothic Medium Cond"/>
              </a:rPr>
              <a:t>ANOVA con 1 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286000" y="1143000"/>
            <a:ext cx="6858000" cy="685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Supue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0" y="3657600"/>
            <a:ext cx="1600200" cy="2973600"/>
            <a:chOff x="0" y="3657600"/>
            <a:chExt cx="1600200" cy="2973600"/>
          </a:xfrm>
        </p:grpSpPr>
        <p:sp>
          <p:nvSpPr>
            <p:cNvPr id="329" name=""/>
            <p:cNvSpPr/>
            <p:nvPr/>
          </p:nvSpPr>
          <p:spPr>
            <a:xfrm>
              <a:off x="0" y="41911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0" y="47545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M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5288040"/>
              <a:ext cx="1600200" cy="45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ANCOVA-MANC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0" y="58212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Medidas Repetid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63547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Ejempl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0" y="36576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9900"/>
                  </a:solidFill>
                  <a:latin typeface="Franklin Gothic Medium Cond"/>
                </a:rPr>
                <a:t>introduc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0" y="3657600"/>
            <a:ext cx="1600200" cy="810000"/>
            <a:chOff x="0" y="3657600"/>
            <a:chExt cx="1600200" cy="810000"/>
          </a:xfrm>
        </p:grpSpPr>
        <p:sp>
          <p:nvSpPr>
            <p:cNvPr id="336" name=""/>
            <p:cNvSpPr/>
            <p:nvPr/>
          </p:nvSpPr>
          <p:spPr>
            <a:xfrm>
              <a:off x="0" y="41911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9900"/>
                  </a:solidFill>
                  <a:latin typeface="Franklin Gothic Medium Cond"/>
                </a:rPr>
                <a:t>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36576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introduc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2286000" y="1981080"/>
            <a:ext cx="6858000" cy="1371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9900"/>
                </a:solidFill>
                <a:latin typeface="Franklin Gothic Medium Cond"/>
              </a:rPr>
              <a:t>La variable dependiente sigue una distribución nor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Franklin Gothic Medium Cond"/>
              </a:rPr>
              <a:t>Representación gráfica y examen de curtosis y asimetr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Franklin Gothic Medium Cond"/>
              </a:rPr>
              <a:t>Test de normalidad de Kolmogorov-Smirno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286000" y="3505320"/>
            <a:ext cx="6858000" cy="1371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9900"/>
                </a:solidFill>
                <a:latin typeface="Franklin Gothic Medium Cond"/>
              </a:rPr>
              <a:t>Homocedasticidad (Homogeneidad de varianz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Franklin Gothic Medium Cond"/>
              </a:rPr>
              <a:t>Tests de Cochran y Bartle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Franklin Gothic Medium Cond"/>
              </a:rPr>
              <a:t>Test de Leve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0" y="5029200"/>
            <a:ext cx="6858000" cy="1371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9900"/>
                </a:solidFill>
                <a:latin typeface="Franklin Gothic Medium Cond"/>
              </a:rPr>
              <a:t>Las submuestras son independientes y aleator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Franklin Gothic Medium Cond"/>
              </a:rPr>
              <a:t>Ambas características vienen determinadas por el modo de selección de las submuest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600200" y="762120"/>
            <a:ext cx="7543800" cy="6095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22520" y="223920"/>
            <a:ext cx="697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Franklin Gothic Medium Cond"/>
              </a:rPr>
              <a:t>ANOVA: Análisis Univariable de la Varianza: </a:t>
            </a:r>
            <a:r>
              <a:rPr b="0" lang="en-US" sz="1800" spc="-1" strike="noStrike">
                <a:solidFill>
                  <a:srgbClr val="ff9900"/>
                </a:solidFill>
                <a:latin typeface="Franklin Gothic Medium Cond"/>
              </a:rPr>
              <a:t>ANOVA con 1 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286000" y="1143000"/>
            <a:ext cx="6858000" cy="685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Descomposición de la varia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0" y="3657600"/>
            <a:ext cx="1600200" cy="2973600"/>
            <a:chOff x="0" y="3657600"/>
            <a:chExt cx="1600200" cy="2973600"/>
          </a:xfrm>
        </p:grpSpPr>
        <p:sp>
          <p:nvSpPr>
            <p:cNvPr id="347" name=""/>
            <p:cNvSpPr/>
            <p:nvPr/>
          </p:nvSpPr>
          <p:spPr>
            <a:xfrm>
              <a:off x="0" y="41911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0" y="47545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M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0" y="5288040"/>
              <a:ext cx="1600200" cy="45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ANCOVA-MANC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0" y="58212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Medidas Repetid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0" y="63547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Ejempl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0" y="36576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9900"/>
                  </a:solidFill>
                  <a:latin typeface="Franklin Gothic Medium Cond"/>
                </a:rPr>
                <a:t>introduc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0" y="3657600"/>
            <a:ext cx="1600200" cy="810000"/>
            <a:chOff x="0" y="3657600"/>
            <a:chExt cx="1600200" cy="810000"/>
          </a:xfrm>
        </p:grpSpPr>
        <p:sp>
          <p:nvSpPr>
            <p:cNvPr id="354" name=""/>
            <p:cNvSpPr/>
            <p:nvPr/>
          </p:nvSpPr>
          <p:spPr>
            <a:xfrm>
              <a:off x="0" y="41911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9900"/>
                  </a:solidFill>
                  <a:latin typeface="Franklin Gothic Medium Cond"/>
                </a:rPr>
                <a:t>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0" y="36576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introduc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2286000" y="3429000"/>
            <a:ext cx="1981080" cy="1143000"/>
            <a:chOff x="2286000" y="3429000"/>
            <a:chExt cx="1981080" cy="1143000"/>
          </a:xfrm>
        </p:grpSpPr>
        <p:sp>
          <p:nvSpPr>
            <p:cNvPr id="357" name=""/>
            <p:cNvSpPr/>
            <p:nvPr/>
          </p:nvSpPr>
          <p:spPr>
            <a:xfrm>
              <a:off x="2286000" y="3429000"/>
              <a:ext cx="1981080" cy="114300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8" name=""/>
                <p:cNvSpPr txBox="1"/>
                <p:nvPr/>
              </p:nvSpPr>
              <p:spPr>
                <a:xfrm>
                  <a:off x="2473200" y="3613320"/>
                  <a:ext cx="1606680" cy="77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p</m:t>
                          </m:r>
                        </m:sup>
                        <m:e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k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r>
                                <m:t xml:space="preserve">μ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59" name=""/>
          <p:cNvGrpSpPr/>
          <p:nvPr/>
        </p:nvGrpSpPr>
        <p:grpSpPr>
          <a:xfrm>
            <a:off x="2286000" y="2057400"/>
            <a:ext cx="1981080" cy="1143000"/>
            <a:chOff x="2286000" y="2057400"/>
            <a:chExt cx="1981080" cy="1143000"/>
          </a:xfrm>
        </p:grpSpPr>
        <p:sp>
          <p:nvSpPr>
            <p:cNvPr id="360" name=""/>
            <p:cNvSpPr/>
            <p:nvPr/>
          </p:nvSpPr>
          <p:spPr>
            <a:xfrm>
              <a:off x="2286000" y="2057400"/>
              <a:ext cx="1981080" cy="114300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1" name=""/>
                <p:cNvSpPr txBox="1"/>
                <p:nvPr/>
              </p:nvSpPr>
              <p:spPr>
                <a:xfrm>
                  <a:off x="2836800" y="2459160"/>
                  <a:ext cx="881280" cy="33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k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μ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62" name=""/>
          <p:cNvSpPr/>
          <p:nvPr/>
        </p:nvSpPr>
        <p:spPr>
          <a:xfrm>
            <a:off x="2286000" y="4800600"/>
            <a:ext cx="1981080" cy="6858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Franklin Gothic Medium Cond"/>
              </a:rPr>
              <a:t>S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286000" y="5715000"/>
            <a:ext cx="1981080" cy="9144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Franklin Gothic Medium Cond"/>
              </a:rPr>
              <a:t>Variabi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Franklin Gothic Medium Cond"/>
              </a:rPr>
              <a:t>to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4259880" y="2057400"/>
            <a:ext cx="4655520" cy="1143000"/>
            <a:chOff x="4259880" y="2057400"/>
            <a:chExt cx="4655520" cy="1143000"/>
          </a:xfrm>
        </p:grpSpPr>
        <p:sp>
          <p:nvSpPr>
            <p:cNvPr id="365" name=""/>
            <p:cNvSpPr/>
            <p:nvPr/>
          </p:nvSpPr>
          <p:spPr>
            <a:xfrm>
              <a:off x="6934320" y="2057400"/>
              <a:ext cx="1981080" cy="114300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6" name=""/>
                <p:cNvSpPr txBox="1"/>
                <p:nvPr/>
              </p:nvSpPr>
              <p:spPr>
                <a:xfrm>
                  <a:off x="7424640" y="2459160"/>
                  <a:ext cx="1000080" cy="33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k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67" name=""/>
            <p:cNvSpPr/>
            <p:nvPr/>
          </p:nvSpPr>
          <p:spPr>
            <a:xfrm>
              <a:off x="4572000" y="2057400"/>
              <a:ext cx="2057400" cy="114300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8" name=""/>
                <p:cNvSpPr txBox="1"/>
                <p:nvPr/>
              </p:nvSpPr>
              <p:spPr>
                <a:xfrm>
                  <a:off x="5159520" y="2459160"/>
                  <a:ext cx="882360" cy="33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μ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69" name=""/>
            <p:cNvSpPr/>
            <p:nvPr/>
          </p:nvSpPr>
          <p:spPr>
            <a:xfrm>
              <a:off x="4259880" y="24004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Franklin Gothic Medium Cond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622200" y="24004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Franklin Gothic Medium Cond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4259880" y="3429000"/>
            <a:ext cx="4655520" cy="1143000"/>
            <a:chOff x="4259880" y="3429000"/>
            <a:chExt cx="4655520" cy="1143000"/>
          </a:xfrm>
        </p:grpSpPr>
        <p:sp>
          <p:nvSpPr>
            <p:cNvPr id="372" name=""/>
            <p:cNvSpPr/>
            <p:nvPr/>
          </p:nvSpPr>
          <p:spPr>
            <a:xfrm>
              <a:off x="6934320" y="3429000"/>
              <a:ext cx="1981080" cy="114300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3" name=""/>
                <p:cNvSpPr txBox="1"/>
                <p:nvPr/>
              </p:nvSpPr>
              <p:spPr>
                <a:xfrm>
                  <a:off x="7062840" y="3613320"/>
                  <a:ext cx="1724040" cy="77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p</m:t>
                          </m:r>
                        </m:sup>
                        <m:e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k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μ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74" name=""/>
            <p:cNvSpPr/>
            <p:nvPr/>
          </p:nvSpPr>
          <p:spPr>
            <a:xfrm>
              <a:off x="4572000" y="3429000"/>
              <a:ext cx="2057400" cy="114300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5" name=""/>
                <p:cNvSpPr txBox="1"/>
                <p:nvPr/>
              </p:nvSpPr>
              <p:spPr>
                <a:xfrm>
                  <a:off x="4836960" y="3613320"/>
                  <a:ext cx="1527480" cy="77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p</m:t>
                          </m:r>
                        </m:sup>
                        <m:e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μ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76" name=""/>
            <p:cNvSpPr/>
            <p:nvPr/>
          </p:nvSpPr>
          <p:spPr>
            <a:xfrm>
              <a:off x="6622200" y="37720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Franklin Gothic Medium Cond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259880" y="37720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Franklin Gothic Medium Cond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4259880" y="4800600"/>
            <a:ext cx="4655520" cy="685800"/>
            <a:chOff x="4259880" y="4800600"/>
            <a:chExt cx="4655520" cy="685800"/>
          </a:xfrm>
        </p:grpSpPr>
        <p:sp>
          <p:nvSpPr>
            <p:cNvPr id="379" name=""/>
            <p:cNvSpPr/>
            <p:nvPr/>
          </p:nvSpPr>
          <p:spPr>
            <a:xfrm>
              <a:off x="6934320" y="4800600"/>
              <a:ext cx="1981080" cy="68580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Franklin Gothic Medium Cond"/>
                </a:rPr>
                <a:t>SC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572000" y="4800600"/>
              <a:ext cx="2057400" cy="68580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Franklin Gothic Medium Cond"/>
                </a:rPr>
                <a:t>S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622200" y="49150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Franklin Gothic Medium Cond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259880" y="49150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Franklin Gothic Medium Cond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4259880" y="5715000"/>
            <a:ext cx="4655520" cy="914400"/>
            <a:chOff x="4259880" y="5715000"/>
            <a:chExt cx="4655520" cy="914400"/>
          </a:xfrm>
        </p:grpSpPr>
        <p:sp>
          <p:nvSpPr>
            <p:cNvPr id="384" name=""/>
            <p:cNvSpPr/>
            <p:nvPr/>
          </p:nvSpPr>
          <p:spPr>
            <a:xfrm>
              <a:off x="6934320" y="5715000"/>
              <a:ext cx="1981080" cy="91440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Franklin Gothic Medium Cond"/>
                </a:rPr>
                <a:t>Variabilid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Franklin Gothic Medium Cond"/>
                </a:rPr>
                <a:t>residu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Franklin Gothic Medium Cond"/>
                </a:rPr>
                <a:t>(intra-grupo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572000" y="5715000"/>
              <a:ext cx="2057400" cy="91440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Franklin Gothic Medium Cond"/>
                </a:rPr>
                <a:t>Variabilidad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Franklin Gothic Medium Cond"/>
                </a:rPr>
                <a:t>explicada por el fac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Franklin Gothic Medium Cond"/>
                </a:rPr>
                <a:t>(entre-grupo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622200" y="59436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Franklin Gothic Medium Cond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259880" y="59436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Franklin Gothic Medium Cond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600200" y="762120"/>
            <a:ext cx="7543800" cy="6095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22520" y="223920"/>
            <a:ext cx="697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Franklin Gothic Medium Cond"/>
              </a:rPr>
              <a:t>ANOVA: Análisis Univariable de la Varianza: </a:t>
            </a:r>
            <a:r>
              <a:rPr b="0" lang="en-US" sz="1800" spc="-1" strike="noStrike">
                <a:solidFill>
                  <a:srgbClr val="ff9900"/>
                </a:solidFill>
                <a:latin typeface="Franklin Gothic Medium Cond"/>
              </a:rPr>
              <a:t>ANOVA con 1 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286000" y="1143000"/>
            <a:ext cx="6858000" cy="685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Varianzas (Medias cuadrátic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0" y="3657600"/>
            <a:ext cx="1600200" cy="2973600"/>
            <a:chOff x="0" y="3657600"/>
            <a:chExt cx="1600200" cy="2973600"/>
          </a:xfrm>
        </p:grpSpPr>
        <p:sp>
          <p:nvSpPr>
            <p:cNvPr id="394" name=""/>
            <p:cNvSpPr/>
            <p:nvPr/>
          </p:nvSpPr>
          <p:spPr>
            <a:xfrm>
              <a:off x="0" y="41911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0" y="47545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M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5288040"/>
              <a:ext cx="1600200" cy="45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ANCOVA-MANC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58212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Medidas Repetid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0" y="63547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Ejempl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0" y="36576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9900"/>
                  </a:solidFill>
                  <a:latin typeface="Franklin Gothic Medium Cond"/>
                </a:rPr>
                <a:t>introduc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0" y="3657600"/>
            <a:ext cx="1600200" cy="810000"/>
            <a:chOff x="0" y="3657600"/>
            <a:chExt cx="1600200" cy="810000"/>
          </a:xfrm>
        </p:grpSpPr>
        <p:sp>
          <p:nvSpPr>
            <p:cNvPr id="401" name=""/>
            <p:cNvSpPr/>
            <p:nvPr/>
          </p:nvSpPr>
          <p:spPr>
            <a:xfrm>
              <a:off x="0" y="41911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9900"/>
                  </a:solidFill>
                  <a:latin typeface="Franklin Gothic Medium Cond"/>
                </a:rPr>
                <a:t>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36576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introduc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2286000" y="2209680"/>
            <a:ext cx="68580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Franklin Gothic Medium Cond"/>
              </a:rPr>
              <a:t>Varianza inter-gru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286000" y="3657600"/>
            <a:ext cx="6858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 Cond"/>
              </a:rPr>
              <a:t>Varianza intra-gru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286000" y="5181480"/>
            <a:ext cx="685800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 Cond"/>
              </a:rPr>
              <a:t>Varianza 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6262560" y="2365200"/>
                <a:ext cx="1979640" cy="90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C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-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p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-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6178680" y="3851280"/>
                <a:ext cx="214776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C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-p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p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k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e>
                        </m:nary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-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6224760" y="5397480"/>
                <a:ext cx="204120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C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-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p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k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e>
                        </m:nary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-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600200" y="762120"/>
            <a:ext cx="7543800" cy="6095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286000" y="1143000"/>
            <a:ext cx="6858000" cy="685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Tabla res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0" y="3657600"/>
            <a:ext cx="1600200" cy="2973600"/>
            <a:chOff x="0" y="3657600"/>
            <a:chExt cx="1600200" cy="2973600"/>
          </a:xfrm>
        </p:grpSpPr>
        <p:sp>
          <p:nvSpPr>
            <p:cNvPr id="414" name=""/>
            <p:cNvSpPr/>
            <p:nvPr/>
          </p:nvSpPr>
          <p:spPr>
            <a:xfrm>
              <a:off x="0" y="41911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0" y="47545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M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0" y="5288040"/>
              <a:ext cx="1600200" cy="45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ANCOVA-MANC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0" y="58212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Medidas Repetid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0" y="63547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Ejempl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0" y="36576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9900"/>
                  </a:solidFill>
                  <a:latin typeface="Franklin Gothic Medium Cond"/>
                </a:rPr>
                <a:t>introduc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0" y="3657600"/>
            <a:ext cx="1600200" cy="810000"/>
            <a:chOff x="0" y="3657600"/>
            <a:chExt cx="1600200" cy="810000"/>
          </a:xfrm>
        </p:grpSpPr>
        <p:sp>
          <p:nvSpPr>
            <p:cNvPr id="421" name=""/>
            <p:cNvSpPr/>
            <p:nvPr/>
          </p:nvSpPr>
          <p:spPr>
            <a:xfrm>
              <a:off x="0" y="41911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9900"/>
                  </a:solidFill>
                  <a:latin typeface="Franklin Gothic Medium Cond"/>
                </a:rPr>
                <a:t>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0" y="36576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introduc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2286000" y="2438280"/>
            <a:ext cx="1219320" cy="3886200"/>
            <a:chOff x="2286000" y="2438280"/>
            <a:chExt cx="1219320" cy="3886200"/>
          </a:xfrm>
        </p:grpSpPr>
        <p:sp>
          <p:nvSpPr>
            <p:cNvPr id="424" name=""/>
            <p:cNvSpPr/>
            <p:nvPr/>
          </p:nvSpPr>
          <p:spPr>
            <a:xfrm>
              <a:off x="2286000" y="2438280"/>
              <a:ext cx="1219320" cy="9144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Franklin Gothic Medium Cond"/>
                </a:rPr>
                <a:t>Fuente 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Franklin Gothic Medium Cond"/>
                </a:rPr>
                <a:t>vari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286000" y="3429000"/>
              <a:ext cx="1219320" cy="9144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Franklin Gothic Medium Cond"/>
                </a:rPr>
                <a:t>Fac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286000" y="4419720"/>
              <a:ext cx="1219320" cy="9144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Franklin Gothic Medium Cond"/>
                </a:rPr>
                <a:t>Residu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286000" y="5410080"/>
              <a:ext cx="1219320" cy="9144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Franklin Gothic Medium Cond"/>
                </a:rPr>
                <a:t>Tot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3581280" y="2438280"/>
            <a:ext cx="1219320" cy="3886200"/>
            <a:chOff x="3581280" y="2438280"/>
            <a:chExt cx="1219320" cy="3886200"/>
          </a:xfrm>
        </p:grpSpPr>
        <p:sp>
          <p:nvSpPr>
            <p:cNvPr id="429" name=""/>
            <p:cNvSpPr/>
            <p:nvPr/>
          </p:nvSpPr>
          <p:spPr>
            <a:xfrm>
              <a:off x="3581280" y="2438280"/>
              <a:ext cx="1219320" cy="9144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Franklin Gothic Medium Cond"/>
                </a:rPr>
                <a:t>Suma 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Franklin Gothic Medium Cond"/>
                </a:rPr>
                <a:t>cuadrad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581280" y="3429000"/>
              <a:ext cx="1219320" cy="9144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Franklin Gothic Medium Cond"/>
                </a:rPr>
                <a:t>S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581280" y="4419720"/>
              <a:ext cx="1219320" cy="9144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Franklin Gothic Medium Cond"/>
                </a:rPr>
                <a:t>SC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581280" y="5410080"/>
              <a:ext cx="1219320" cy="9144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Franklin Gothic Medium Cond"/>
                </a:rPr>
                <a:t>S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4876920" y="2438280"/>
            <a:ext cx="685800" cy="3886200"/>
            <a:chOff x="4876920" y="2438280"/>
            <a:chExt cx="685800" cy="3886200"/>
          </a:xfrm>
        </p:grpSpPr>
        <p:sp>
          <p:nvSpPr>
            <p:cNvPr id="434" name=""/>
            <p:cNvSpPr/>
            <p:nvPr/>
          </p:nvSpPr>
          <p:spPr>
            <a:xfrm>
              <a:off x="4876920" y="2438280"/>
              <a:ext cx="685800" cy="9144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Franklin Gothic Medium Cond"/>
                </a:rPr>
                <a:t>g.d.l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876920" y="3429000"/>
              <a:ext cx="685800" cy="9144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Franklin Gothic Medium Cond"/>
                </a:rPr>
                <a:t>p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876920" y="4419720"/>
              <a:ext cx="685800" cy="9144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Franklin Gothic Medium Cond"/>
                </a:rPr>
                <a:t>n-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876920" y="5410080"/>
              <a:ext cx="685800" cy="9144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Franklin Gothic Medium Cond"/>
                </a:rPr>
                <a:t>n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6934320" y="2438280"/>
            <a:ext cx="2057400" cy="3886200"/>
            <a:chOff x="6934320" y="2438280"/>
            <a:chExt cx="2057400" cy="3886200"/>
          </a:xfrm>
        </p:grpSpPr>
        <p:sp>
          <p:nvSpPr>
            <p:cNvPr id="439" name=""/>
            <p:cNvSpPr/>
            <p:nvPr/>
          </p:nvSpPr>
          <p:spPr>
            <a:xfrm>
              <a:off x="6934320" y="2438280"/>
              <a:ext cx="2057400" cy="9144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Franklin Gothic Medium Cond"/>
                </a:rPr>
                <a:t>Estadísti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Franklin Gothic Medium Cond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6934320" y="3429000"/>
              <a:ext cx="2057400" cy="2895480"/>
              <a:chOff x="6934320" y="3429000"/>
              <a:chExt cx="2057400" cy="2895480"/>
            </a:xfrm>
          </p:grpSpPr>
          <p:sp>
            <p:nvSpPr>
              <p:cNvPr id="441" name=""/>
              <p:cNvSpPr/>
              <p:nvPr/>
            </p:nvSpPr>
            <p:spPr>
              <a:xfrm>
                <a:off x="6934320" y="3429000"/>
                <a:ext cx="2057400" cy="2895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42" name=""/>
                  <p:cNvSpPr txBox="1"/>
                  <p:nvPr/>
                </p:nvSpPr>
                <p:spPr>
                  <a:xfrm>
                    <a:off x="6934320" y="4516560"/>
                    <a:ext cx="2022480" cy="720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CE</m:t>
                            </m:r>
                            <m:r>
                              <m:t xml:space="preserve">/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-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CR</m:t>
                            </m:r>
                            <m:r>
                              <m:t xml:space="preserve">/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-p</m:t>
                            </m:r>
                          </m:den>
                        </m:f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;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r>
                              <m:t xml:space="preserve">)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443" name=""/>
          <p:cNvGrpSpPr/>
          <p:nvPr/>
        </p:nvGrpSpPr>
        <p:grpSpPr>
          <a:xfrm>
            <a:off x="5638680" y="2438280"/>
            <a:ext cx="1219320" cy="3886200"/>
            <a:chOff x="5638680" y="2438280"/>
            <a:chExt cx="1219320" cy="3886200"/>
          </a:xfrm>
        </p:grpSpPr>
        <p:sp>
          <p:nvSpPr>
            <p:cNvPr id="444" name=""/>
            <p:cNvSpPr/>
            <p:nvPr/>
          </p:nvSpPr>
          <p:spPr>
            <a:xfrm>
              <a:off x="5638680" y="2438280"/>
              <a:ext cx="1219320" cy="9144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Franklin Gothic Medium Cond"/>
                </a:rPr>
                <a:t>Medi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Franklin Gothic Medium Cond"/>
                </a:rPr>
                <a:t>cuadrátic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5" name=""/>
            <p:cNvGrpSpPr/>
            <p:nvPr/>
          </p:nvGrpSpPr>
          <p:grpSpPr>
            <a:xfrm>
              <a:off x="5638680" y="4419720"/>
              <a:ext cx="1219320" cy="914400"/>
              <a:chOff x="5638680" y="4419720"/>
              <a:chExt cx="1219320" cy="914400"/>
            </a:xfrm>
          </p:grpSpPr>
          <p:sp>
            <p:nvSpPr>
              <p:cNvPr id="446" name=""/>
              <p:cNvSpPr/>
              <p:nvPr/>
            </p:nvSpPr>
            <p:spPr>
              <a:xfrm>
                <a:off x="5638680" y="4419720"/>
                <a:ext cx="1219320" cy="9144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47" name=""/>
                  <p:cNvSpPr txBox="1"/>
                  <p:nvPr/>
                </p:nvSpPr>
                <p:spPr>
                  <a:xfrm>
                    <a:off x="6172200" y="4535640"/>
                    <a:ext cx="574560" cy="684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CR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n-p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448" name=""/>
            <p:cNvGrpSpPr/>
            <p:nvPr/>
          </p:nvGrpSpPr>
          <p:grpSpPr>
            <a:xfrm>
              <a:off x="5638680" y="5410080"/>
              <a:ext cx="1219320" cy="914400"/>
              <a:chOff x="5638680" y="5410080"/>
              <a:chExt cx="1219320" cy="914400"/>
            </a:xfrm>
          </p:grpSpPr>
          <p:sp>
            <p:nvSpPr>
              <p:cNvPr id="449" name=""/>
              <p:cNvSpPr/>
              <p:nvPr/>
            </p:nvSpPr>
            <p:spPr>
              <a:xfrm>
                <a:off x="5638680" y="5410080"/>
                <a:ext cx="1219320" cy="9144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50" name=""/>
                  <p:cNvSpPr txBox="1"/>
                  <p:nvPr/>
                </p:nvSpPr>
                <p:spPr>
                  <a:xfrm>
                    <a:off x="6189840" y="5553000"/>
                    <a:ext cx="537840" cy="628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C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n-1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451" name=""/>
            <p:cNvGrpSpPr/>
            <p:nvPr/>
          </p:nvGrpSpPr>
          <p:grpSpPr>
            <a:xfrm>
              <a:off x="5638680" y="3429000"/>
              <a:ext cx="1219320" cy="914400"/>
              <a:chOff x="5638680" y="3429000"/>
              <a:chExt cx="1219320" cy="914400"/>
            </a:xfrm>
          </p:grpSpPr>
          <p:sp>
            <p:nvSpPr>
              <p:cNvPr id="452" name=""/>
              <p:cNvSpPr/>
              <p:nvPr/>
            </p:nvSpPr>
            <p:spPr>
              <a:xfrm>
                <a:off x="5638680" y="3429000"/>
                <a:ext cx="1219320" cy="9144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53" name=""/>
                  <p:cNvSpPr txBox="1"/>
                  <p:nvPr/>
                </p:nvSpPr>
                <p:spPr>
                  <a:xfrm>
                    <a:off x="6189840" y="3544920"/>
                    <a:ext cx="537840" cy="684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CE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-1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454" name=""/>
          <p:cNvSpPr/>
          <p:nvPr/>
        </p:nvSpPr>
        <p:spPr>
          <a:xfrm>
            <a:off x="722520" y="223920"/>
            <a:ext cx="697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Franklin Gothic Medium Cond"/>
              </a:rPr>
              <a:t>ANOVA: Análisis Univariable de la Varianza: </a:t>
            </a:r>
            <a:r>
              <a:rPr b="0" lang="en-US" sz="1800" spc="-1" strike="noStrike">
                <a:solidFill>
                  <a:srgbClr val="ff9900"/>
                </a:solidFill>
                <a:latin typeface="Franklin Gothic Medium Cond"/>
              </a:rPr>
              <a:t>ANOVA con 1 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600200" y="762120"/>
            <a:ext cx="7543800" cy="6095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286000" y="1143000"/>
            <a:ext cx="6858000" cy="685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Medida de ef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0" y="3657600"/>
            <a:ext cx="1600200" cy="2973600"/>
            <a:chOff x="0" y="3657600"/>
            <a:chExt cx="1600200" cy="2973600"/>
          </a:xfrm>
        </p:grpSpPr>
        <p:sp>
          <p:nvSpPr>
            <p:cNvPr id="460" name=""/>
            <p:cNvSpPr/>
            <p:nvPr/>
          </p:nvSpPr>
          <p:spPr>
            <a:xfrm>
              <a:off x="0" y="41911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0" y="47545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M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0" y="5288040"/>
              <a:ext cx="1600200" cy="45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ANCOVA-MANC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0" y="58212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Medidas Repetid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0" y="63547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Ejempl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0" y="36576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9900"/>
                  </a:solidFill>
                  <a:latin typeface="Franklin Gothic Medium Cond"/>
                </a:rPr>
                <a:t>introduc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0" y="3657600"/>
            <a:ext cx="1600200" cy="810000"/>
            <a:chOff x="0" y="3657600"/>
            <a:chExt cx="1600200" cy="810000"/>
          </a:xfrm>
        </p:grpSpPr>
        <p:sp>
          <p:nvSpPr>
            <p:cNvPr id="467" name=""/>
            <p:cNvSpPr/>
            <p:nvPr/>
          </p:nvSpPr>
          <p:spPr>
            <a:xfrm>
              <a:off x="0" y="41911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9900"/>
                  </a:solidFill>
                  <a:latin typeface="Franklin Gothic Medium Cond"/>
                </a:rPr>
                <a:t>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0" y="36576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introduc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69" name="Graph3" descr=""/>
          <p:cNvPicPr/>
          <p:nvPr/>
        </p:nvPicPr>
        <p:blipFill>
          <a:blip r:embed="rId1"/>
          <a:stretch/>
        </p:blipFill>
        <p:spPr>
          <a:xfrm>
            <a:off x="2286000" y="2212920"/>
            <a:ext cx="6705720" cy="4340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6624720" y="2843280"/>
                <a:ext cx="172548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1" name=""/>
          <p:cNvSpPr/>
          <p:nvPr/>
        </p:nvSpPr>
        <p:spPr>
          <a:xfrm>
            <a:off x="7238880" y="3276720"/>
            <a:ext cx="1800" cy="30477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22520" y="223920"/>
            <a:ext cx="697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Franklin Gothic Medium Cond"/>
              </a:rPr>
              <a:t>ANOVA: Análisis Univariable de la Varianza: </a:t>
            </a:r>
            <a:r>
              <a:rPr b="0" lang="en-US" sz="1800" spc="-1" strike="noStrike">
                <a:solidFill>
                  <a:srgbClr val="ff9900"/>
                </a:solidFill>
                <a:latin typeface="Franklin Gothic Medium Cond"/>
              </a:rPr>
              <a:t>ANOVA con 1 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600200" y="762120"/>
            <a:ext cx="7543800" cy="6095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286000" y="1143000"/>
            <a:ext cx="6858000" cy="685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Medida de ef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0" y="3657600"/>
            <a:ext cx="1600200" cy="2973600"/>
            <a:chOff x="0" y="3657600"/>
            <a:chExt cx="1600200" cy="2973600"/>
          </a:xfrm>
        </p:grpSpPr>
        <p:sp>
          <p:nvSpPr>
            <p:cNvPr id="478" name=""/>
            <p:cNvSpPr/>
            <p:nvPr/>
          </p:nvSpPr>
          <p:spPr>
            <a:xfrm>
              <a:off x="0" y="41911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0" y="47545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M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0" y="5288040"/>
              <a:ext cx="1600200" cy="45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ANCOVA-MANC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0" y="58212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Medidas Repetid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0" y="63547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Ejempl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0" y="36576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9900"/>
                  </a:solidFill>
                  <a:latin typeface="Franklin Gothic Medium Cond"/>
                </a:rPr>
                <a:t>introduc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0" y="3657600"/>
            <a:ext cx="1600200" cy="810000"/>
            <a:chOff x="0" y="3657600"/>
            <a:chExt cx="1600200" cy="810000"/>
          </a:xfrm>
        </p:grpSpPr>
        <p:sp>
          <p:nvSpPr>
            <p:cNvPr id="485" name=""/>
            <p:cNvSpPr/>
            <p:nvPr/>
          </p:nvSpPr>
          <p:spPr>
            <a:xfrm>
              <a:off x="0" y="41911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9900"/>
                  </a:solidFill>
                  <a:latin typeface="Franklin Gothic Medium Cond"/>
                </a:rPr>
                <a:t>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0" y="36576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introduc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7" name=""/>
          <p:cNvSpPr/>
          <p:nvPr/>
        </p:nvSpPr>
        <p:spPr>
          <a:xfrm>
            <a:off x="2286000" y="2209680"/>
            <a:ext cx="68580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Franklin Gothic Medium Cond"/>
              </a:rPr>
              <a:t>Eta-cuad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5486400" y="2446200"/>
                <a:ext cx="341136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η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C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CE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C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C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C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9" name=""/>
          <p:cNvSpPr/>
          <p:nvPr/>
        </p:nvSpPr>
        <p:spPr>
          <a:xfrm>
            <a:off x="722520" y="223920"/>
            <a:ext cx="697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Franklin Gothic Medium Cond"/>
              </a:rPr>
              <a:t>ANOVA: Análisis Univariable de la Varianza: </a:t>
            </a:r>
            <a:r>
              <a:rPr b="0" lang="en-US" sz="1800" spc="-1" strike="noStrike">
                <a:solidFill>
                  <a:srgbClr val="ff9900"/>
                </a:solidFill>
                <a:latin typeface="Franklin Gothic Medium Cond"/>
              </a:rPr>
              <a:t>ANOVA con 1 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600200" y="762120"/>
            <a:ext cx="7543800" cy="6095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286000" y="1143000"/>
            <a:ext cx="6858000" cy="685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Potencia observ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0" y="3657600"/>
            <a:ext cx="1600200" cy="2973600"/>
            <a:chOff x="0" y="3657600"/>
            <a:chExt cx="1600200" cy="2973600"/>
          </a:xfrm>
        </p:grpSpPr>
        <p:sp>
          <p:nvSpPr>
            <p:cNvPr id="495" name=""/>
            <p:cNvSpPr/>
            <p:nvPr/>
          </p:nvSpPr>
          <p:spPr>
            <a:xfrm>
              <a:off x="0" y="41911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0" y="47545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M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0" y="5288040"/>
              <a:ext cx="1600200" cy="45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ANCOVA-MANC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0" y="58212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Medidas Repetid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0" y="63547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Ejempl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0" y="36576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9900"/>
                  </a:solidFill>
                  <a:latin typeface="Franklin Gothic Medium Cond"/>
                </a:rPr>
                <a:t>introduc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0" y="3657600"/>
            <a:ext cx="1600200" cy="810000"/>
            <a:chOff x="0" y="3657600"/>
            <a:chExt cx="1600200" cy="810000"/>
          </a:xfrm>
        </p:grpSpPr>
        <p:sp>
          <p:nvSpPr>
            <p:cNvPr id="502" name=""/>
            <p:cNvSpPr/>
            <p:nvPr/>
          </p:nvSpPr>
          <p:spPr>
            <a:xfrm>
              <a:off x="0" y="41911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9900"/>
                  </a:solidFill>
                  <a:latin typeface="Franklin Gothic Medium Cond"/>
                </a:rPr>
                <a:t>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0" y="36576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introduc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2057400" y="1905120"/>
            <a:ext cx="6858000" cy="4876560"/>
            <a:chOff x="2057400" y="1905120"/>
            <a:chExt cx="6858000" cy="4876560"/>
          </a:xfrm>
        </p:grpSpPr>
        <p:sp>
          <p:nvSpPr>
            <p:cNvPr id="505" name=""/>
            <p:cNvSpPr/>
            <p:nvPr/>
          </p:nvSpPr>
          <p:spPr>
            <a:xfrm>
              <a:off x="2057400" y="1905120"/>
              <a:ext cx="6858000" cy="48765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286000" y="2286000"/>
              <a:ext cx="2057400" cy="198072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decis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495680" y="2286000"/>
              <a:ext cx="4267440" cy="91404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realid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495680" y="3352680"/>
              <a:ext cx="2057400" cy="91404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H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Franklin Gothic Medium Cond"/>
                </a:rPr>
                <a:t>0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 es cier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705720" y="3352680"/>
              <a:ext cx="2057400" cy="91404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H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Franklin Gothic Medium Cond"/>
                </a:rPr>
                <a:t>0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 es fals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286000" y="4419360"/>
              <a:ext cx="2057400" cy="91404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Aceptar H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Franklin Gothic Medium Cond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286000" y="5486400"/>
              <a:ext cx="2057400" cy="91404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Rechazar H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Franklin Gothic Medium Cond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2" name=""/>
          <p:cNvSpPr/>
          <p:nvPr/>
        </p:nvSpPr>
        <p:spPr>
          <a:xfrm>
            <a:off x="4495680" y="4419720"/>
            <a:ext cx="2057400" cy="9144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 Cond"/>
              </a:rPr>
              <a:t>1-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 Cond"/>
              </a:rPr>
              <a:t>(nivel de confianz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705720" y="4419720"/>
            <a:ext cx="2057400" cy="9144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 Cond"/>
              </a:rPr>
              <a:t>(error tipo I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495680" y="5486400"/>
            <a:ext cx="2057400" cy="9144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 Cond"/>
              </a:rPr>
              <a:t>(nivel de signific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705720" y="5486400"/>
            <a:ext cx="2057400" cy="9144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 Cond"/>
              </a:rPr>
              <a:t>1-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 Cond"/>
              </a:rPr>
              <a:t>(potenci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22520" y="223920"/>
            <a:ext cx="697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Franklin Gothic Medium Cond"/>
              </a:rPr>
              <a:t>ANOVA: Análisis Univariable de la Varianza: </a:t>
            </a:r>
            <a:r>
              <a:rPr b="0" lang="en-US" sz="1800" spc="-1" strike="noStrike">
                <a:solidFill>
                  <a:srgbClr val="ff9900"/>
                </a:solidFill>
                <a:latin typeface="Franklin Gothic Medium Cond"/>
              </a:rPr>
              <a:t>ANOVA con 1 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1600200" y="762120"/>
            <a:ext cx="7543800" cy="6095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2286000" y="2666880"/>
            <a:ext cx="6858000" cy="4191120"/>
            <a:chOff x="2286000" y="2666880"/>
            <a:chExt cx="6858000" cy="4191120"/>
          </a:xfrm>
        </p:grpSpPr>
        <p:sp>
          <p:nvSpPr>
            <p:cNvPr id="519" name=""/>
            <p:cNvSpPr/>
            <p:nvPr/>
          </p:nvSpPr>
          <p:spPr>
            <a:xfrm>
              <a:off x="2286000" y="2666880"/>
              <a:ext cx="6858000" cy="4191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0" name="Graph1" descr=""/>
            <p:cNvPicPr/>
            <p:nvPr/>
          </p:nvPicPr>
          <p:blipFill>
            <a:blip r:embed="rId1"/>
            <a:stretch/>
          </p:blipFill>
          <p:spPr>
            <a:xfrm>
              <a:off x="2286000" y="2666880"/>
              <a:ext cx="6477120" cy="419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1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286000" y="1143000"/>
            <a:ext cx="6858000" cy="685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Franklin Gothic Medium Cond"/>
              </a:rPr>
              <a:t>Análisis post-ho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0" y="3657600"/>
            <a:ext cx="1600200" cy="2973600"/>
            <a:chOff x="0" y="3657600"/>
            <a:chExt cx="1600200" cy="2973600"/>
          </a:xfrm>
        </p:grpSpPr>
        <p:sp>
          <p:nvSpPr>
            <p:cNvPr id="525" name=""/>
            <p:cNvSpPr/>
            <p:nvPr/>
          </p:nvSpPr>
          <p:spPr>
            <a:xfrm>
              <a:off x="0" y="41911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0" y="47545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M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0" y="5288040"/>
              <a:ext cx="1600200" cy="45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ANCOVA-MANC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0" y="58212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Medidas Repetid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0" y="63547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Ejempl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0" y="36576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9900"/>
                  </a:solidFill>
                  <a:latin typeface="Franklin Gothic Medium Cond"/>
                </a:rPr>
                <a:t>introduc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0" y="3657600"/>
            <a:ext cx="1600200" cy="810000"/>
            <a:chOff x="0" y="3657600"/>
            <a:chExt cx="1600200" cy="810000"/>
          </a:xfrm>
        </p:grpSpPr>
        <p:sp>
          <p:nvSpPr>
            <p:cNvPr id="532" name=""/>
            <p:cNvSpPr/>
            <p:nvPr/>
          </p:nvSpPr>
          <p:spPr>
            <a:xfrm>
              <a:off x="0" y="41911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9900"/>
                  </a:solidFill>
                  <a:latin typeface="Franklin Gothic Medium Cond"/>
                </a:rPr>
                <a:t>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0" y="36576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introduc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" name=""/>
          <p:cNvSpPr/>
          <p:nvPr/>
        </p:nvSpPr>
        <p:spPr>
          <a:xfrm>
            <a:off x="2286000" y="1981080"/>
            <a:ext cx="6858000" cy="685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Franklin Gothic Medium Cond"/>
              </a:rPr>
              <a:t>Diagrama de cajas y patil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286000" y="2819520"/>
            <a:ext cx="6858000" cy="685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Franklin Gothic Medium Cond"/>
              </a:rPr>
              <a:t>Contrastes específ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286000" y="3505320"/>
            <a:ext cx="6858000" cy="1447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Franklin Gothic Medium Cond"/>
              </a:rPr>
              <a:t>Test HSD de Tu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Franklin Gothic Medium Cond"/>
              </a:rPr>
              <a:t>Test de Scheff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Franklin Gothic Medium Cond"/>
              </a:rPr>
              <a:t>Test de Bonferr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22520" y="223920"/>
            <a:ext cx="697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Franklin Gothic Medium Cond"/>
              </a:rPr>
              <a:t>ANOVA: Análisis Univariable de la Varianza: </a:t>
            </a:r>
            <a:r>
              <a:rPr b="0" lang="en-US" sz="1800" spc="-1" strike="noStrike">
                <a:solidFill>
                  <a:srgbClr val="ff9900"/>
                </a:solidFill>
                <a:latin typeface="Franklin Gothic Medium Cond"/>
              </a:rPr>
              <a:t>ANOVA con 1 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00200" y="762120"/>
            <a:ext cx="7543800" cy="6095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04760" y="223920"/>
            <a:ext cx="466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Franklin Gothic Medium Cond"/>
              </a:rPr>
              <a:t>Análisis de la Varianza: Esquema del t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1295280"/>
            <a:ext cx="6858000" cy="685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Int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0" y="2209680"/>
            <a:ext cx="6858000" cy="685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Franklin Gothic Medium Cond"/>
              </a:rPr>
              <a:t>ANOVA (Analysis of Varian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6000" y="3124080"/>
            <a:ext cx="6858000" cy="685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Franklin Gothic Medium Cond"/>
              </a:rPr>
              <a:t>MANOVA (Multiple Analysis of Varian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0" y="4038480"/>
            <a:ext cx="6858000" cy="685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Franklin Gothic Medium Cond"/>
              </a:rPr>
              <a:t>ANCOVA-MANCOVA (Analysis of Covarian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0" y="4952880"/>
            <a:ext cx="6858000" cy="685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Diseños con medidas repeti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0" y="5867280"/>
            <a:ext cx="6858000" cy="685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Ejemp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00200" y="1295280"/>
            <a:ext cx="685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Franklin Gothic Medium Cond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00200" y="2209680"/>
            <a:ext cx="685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Franklin Gothic Medium Cond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124080"/>
            <a:ext cx="685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Franklin Gothic Medium Cond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00200" y="4038480"/>
            <a:ext cx="685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Franklin Gothic Medium Cond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00200" y="4952880"/>
            <a:ext cx="685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Franklin Gothic Medium Cond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00200" y="5867280"/>
            <a:ext cx="685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Franklin Gothic Medium Cond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0" y="3657600"/>
            <a:ext cx="1600200" cy="2973600"/>
            <a:chOff x="0" y="3657600"/>
            <a:chExt cx="1600200" cy="2973600"/>
          </a:xfrm>
        </p:grpSpPr>
        <p:sp>
          <p:nvSpPr>
            <p:cNvPr id="70" name=""/>
            <p:cNvSpPr/>
            <p:nvPr/>
          </p:nvSpPr>
          <p:spPr>
            <a:xfrm>
              <a:off x="0" y="41911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7545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M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5288040"/>
              <a:ext cx="1600200" cy="45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ANCOVA-MANC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58212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Medidas Repetid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63547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Ejempl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6576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introduc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600200" y="762120"/>
            <a:ext cx="7543800" cy="6095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92640" y="223920"/>
            <a:ext cx="720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Franklin Gothic Medium Cond"/>
              </a:rPr>
              <a:t>ANOVA: Análisis Univariable de la Varianza: </a:t>
            </a:r>
            <a:r>
              <a:rPr b="0" lang="en-US" sz="1800" spc="-1" strike="noStrike">
                <a:solidFill>
                  <a:srgbClr val="ff9900"/>
                </a:solidFill>
                <a:latin typeface="Franklin Gothic Medium Cond"/>
              </a:rPr>
              <a:t>ANOVA con k fact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286000" y="1143000"/>
            <a:ext cx="6858000" cy="685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Mod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0" y="3657600"/>
            <a:ext cx="1600200" cy="2973600"/>
            <a:chOff x="0" y="3657600"/>
            <a:chExt cx="1600200" cy="2973600"/>
          </a:xfrm>
        </p:grpSpPr>
        <p:sp>
          <p:nvSpPr>
            <p:cNvPr id="544" name=""/>
            <p:cNvSpPr/>
            <p:nvPr/>
          </p:nvSpPr>
          <p:spPr>
            <a:xfrm>
              <a:off x="0" y="41911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0" y="47545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M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0" y="5288040"/>
              <a:ext cx="1600200" cy="45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ANCOVA-MANC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0" y="58212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Medidas Repetid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0" y="63547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Ejempl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0" y="36576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9900"/>
                  </a:solidFill>
                  <a:latin typeface="Franklin Gothic Medium Cond"/>
                </a:rPr>
                <a:t>introduc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0" name=""/>
          <p:cNvGrpSpPr/>
          <p:nvPr/>
        </p:nvGrpSpPr>
        <p:grpSpPr>
          <a:xfrm>
            <a:off x="0" y="3657600"/>
            <a:ext cx="1600200" cy="810000"/>
            <a:chOff x="0" y="3657600"/>
            <a:chExt cx="1600200" cy="810000"/>
          </a:xfrm>
        </p:grpSpPr>
        <p:sp>
          <p:nvSpPr>
            <p:cNvPr id="551" name=""/>
            <p:cNvSpPr/>
            <p:nvPr/>
          </p:nvSpPr>
          <p:spPr>
            <a:xfrm>
              <a:off x="0" y="41911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9900"/>
                  </a:solidFill>
                  <a:latin typeface="Franklin Gothic Medium Cond"/>
                </a:rPr>
                <a:t>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0" y="36576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introduc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3" name=""/>
          <p:cNvSpPr/>
          <p:nvPr/>
        </p:nvSpPr>
        <p:spPr>
          <a:xfrm>
            <a:off x="3809880" y="3505320"/>
            <a:ext cx="5105520" cy="29718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 Cond"/>
              </a:rPr>
              <a:t>Muestra (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3429000" y="3124080"/>
            <a:ext cx="5119560" cy="3252960"/>
            <a:chOff x="3429000" y="3124080"/>
            <a:chExt cx="5119560" cy="3252960"/>
          </a:xfrm>
        </p:grpSpPr>
        <p:grpSp>
          <p:nvGrpSpPr>
            <p:cNvPr id="555" name=""/>
            <p:cNvGrpSpPr/>
            <p:nvPr/>
          </p:nvGrpSpPr>
          <p:grpSpPr>
            <a:xfrm>
              <a:off x="4176720" y="3124080"/>
              <a:ext cx="4371840" cy="381240"/>
              <a:chOff x="4176720" y="3124080"/>
              <a:chExt cx="4371840" cy="381240"/>
            </a:xfrm>
          </p:grpSpPr>
          <p:sp>
            <p:nvSpPr>
              <p:cNvPr id="556" name=""/>
              <p:cNvSpPr/>
              <p:nvPr/>
            </p:nvSpPr>
            <p:spPr>
              <a:xfrm>
                <a:off x="4176720" y="3124080"/>
                <a:ext cx="409320" cy="381240"/>
              </a:xfrm>
              <a:prstGeom prst="downArrow">
                <a:avLst>
                  <a:gd name="adj1" fmla="val 51935"/>
                  <a:gd name="adj2" fmla="val 52083"/>
                </a:avLst>
              </a:prstGeom>
              <a:solidFill>
                <a:srgbClr val="b2b2b2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5395680" y="3124080"/>
                <a:ext cx="409680" cy="381240"/>
              </a:xfrm>
              <a:prstGeom prst="downArrow">
                <a:avLst>
                  <a:gd name="adj1" fmla="val 51935"/>
                  <a:gd name="adj2" fmla="val 52083"/>
                </a:avLst>
              </a:prstGeom>
              <a:solidFill>
                <a:srgbClr val="b2b2b2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6767280" y="3124080"/>
                <a:ext cx="409680" cy="381240"/>
              </a:xfrm>
              <a:prstGeom prst="downArrow">
                <a:avLst>
                  <a:gd name="adj1" fmla="val 51935"/>
                  <a:gd name="adj2" fmla="val 52083"/>
                </a:avLst>
              </a:prstGeom>
              <a:solidFill>
                <a:srgbClr val="b2b2b2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138880" y="3124080"/>
                <a:ext cx="409680" cy="381240"/>
              </a:xfrm>
              <a:prstGeom prst="downArrow">
                <a:avLst>
                  <a:gd name="adj1" fmla="val 51935"/>
                  <a:gd name="adj2" fmla="val 52083"/>
                </a:avLst>
              </a:prstGeom>
              <a:solidFill>
                <a:srgbClr val="b2b2b2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0" name=""/>
            <p:cNvGrpSpPr/>
            <p:nvPr/>
          </p:nvGrpSpPr>
          <p:grpSpPr>
            <a:xfrm>
              <a:off x="3429000" y="3605040"/>
              <a:ext cx="380880" cy="2772000"/>
              <a:chOff x="3429000" y="3605040"/>
              <a:chExt cx="380880" cy="2772000"/>
            </a:xfrm>
          </p:grpSpPr>
          <p:sp>
            <p:nvSpPr>
              <p:cNvPr id="561" name=""/>
              <p:cNvSpPr/>
              <p:nvPr/>
            </p:nvSpPr>
            <p:spPr>
              <a:xfrm rot="16200000">
                <a:off x="3414600" y="3619440"/>
                <a:ext cx="409680" cy="380880"/>
              </a:xfrm>
              <a:prstGeom prst="downArrow">
                <a:avLst>
                  <a:gd name="adj1" fmla="val 51935"/>
                  <a:gd name="adj2" fmla="val 52083"/>
                </a:avLst>
              </a:prstGeom>
              <a:solidFill>
                <a:srgbClr val="b2b2b2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rot="16200000">
                <a:off x="3414600" y="4305240"/>
                <a:ext cx="409680" cy="380880"/>
              </a:xfrm>
              <a:prstGeom prst="downArrow">
                <a:avLst>
                  <a:gd name="adj1" fmla="val 51935"/>
                  <a:gd name="adj2" fmla="val 52083"/>
                </a:avLst>
              </a:prstGeom>
              <a:solidFill>
                <a:srgbClr val="b2b2b2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rot="16200000">
                <a:off x="3414600" y="5143680"/>
                <a:ext cx="409680" cy="380880"/>
              </a:xfrm>
              <a:prstGeom prst="downArrow">
                <a:avLst>
                  <a:gd name="adj1" fmla="val 51935"/>
                  <a:gd name="adj2" fmla="val 52083"/>
                </a:avLst>
              </a:prstGeom>
              <a:solidFill>
                <a:srgbClr val="b2b2b2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rot="16200000">
                <a:off x="3414600" y="5981760"/>
                <a:ext cx="409680" cy="380880"/>
              </a:xfrm>
              <a:prstGeom prst="downArrow">
                <a:avLst>
                  <a:gd name="adj1" fmla="val 51935"/>
                  <a:gd name="adj2" fmla="val 52083"/>
                </a:avLst>
              </a:prstGeom>
              <a:solidFill>
                <a:srgbClr val="b2b2b2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5" name=""/>
          <p:cNvGrpSpPr/>
          <p:nvPr/>
        </p:nvGrpSpPr>
        <p:grpSpPr>
          <a:xfrm>
            <a:off x="3429000" y="2514600"/>
            <a:ext cx="5486400" cy="609480"/>
            <a:chOff x="3429000" y="2514600"/>
            <a:chExt cx="5486400" cy="609480"/>
          </a:xfrm>
        </p:grpSpPr>
        <p:grpSp>
          <p:nvGrpSpPr>
            <p:cNvPr id="566" name=""/>
            <p:cNvGrpSpPr/>
            <p:nvPr/>
          </p:nvGrpSpPr>
          <p:grpSpPr>
            <a:xfrm>
              <a:off x="3809880" y="2514600"/>
              <a:ext cx="5105520" cy="609480"/>
              <a:chOff x="3809880" y="2514600"/>
              <a:chExt cx="5105520" cy="609480"/>
            </a:xfrm>
          </p:grpSpPr>
          <p:sp>
            <p:nvSpPr>
              <p:cNvPr id="567" name=""/>
              <p:cNvSpPr/>
              <p:nvPr/>
            </p:nvSpPr>
            <p:spPr>
              <a:xfrm>
                <a:off x="3809880" y="2514600"/>
                <a:ext cx="1143000" cy="609480"/>
              </a:xfrm>
              <a:prstGeom prst="rect">
                <a:avLst/>
              </a:prstGeom>
              <a:solidFill>
                <a:srgbClr val="ff99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Franklin Gothic Medium Cond"/>
                  </a:rPr>
                  <a:t>Categoría 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029200" y="2514600"/>
                <a:ext cx="1143000" cy="609480"/>
              </a:xfrm>
              <a:prstGeom prst="rect">
                <a:avLst/>
              </a:prstGeom>
              <a:solidFill>
                <a:srgbClr val="ff99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Franklin Gothic Medium Cond"/>
                  </a:rPr>
                  <a:t>Categoría 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6400800" y="2514600"/>
                <a:ext cx="1143000" cy="609480"/>
              </a:xfrm>
              <a:prstGeom prst="rect">
                <a:avLst/>
              </a:prstGeom>
              <a:solidFill>
                <a:srgbClr val="ff99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Franklin Gothic Medium Cond"/>
                  </a:rPr>
                  <a:t>Categoría 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772400" y="2514600"/>
                <a:ext cx="1143000" cy="609480"/>
              </a:xfrm>
              <a:prstGeom prst="rect">
                <a:avLst/>
              </a:prstGeom>
              <a:solidFill>
                <a:srgbClr val="ff99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Franklin Gothic Medium Cond"/>
                  </a:rPr>
                  <a:t>Categoría 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1" name=""/>
            <p:cNvSpPr/>
            <p:nvPr/>
          </p:nvSpPr>
          <p:spPr>
            <a:xfrm rot="16200000">
              <a:off x="3414600" y="2629080"/>
              <a:ext cx="409680" cy="380880"/>
            </a:xfrm>
            <a:prstGeom prst="downArrow">
              <a:avLst>
                <a:gd name="adj1" fmla="val 51935"/>
                <a:gd name="adj2" fmla="val 52083"/>
              </a:avLst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2286000" y="3124080"/>
            <a:ext cx="1143000" cy="3353040"/>
            <a:chOff x="2286000" y="3124080"/>
            <a:chExt cx="1143000" cy="3353040"/>
          </a:xfrm>
        </p:grpSpPr>
        <p:sp>
          <p:nvSpPr>
            <p:cNvPr id="573" name=""/>
            <p:cNvSpPr/>
            <p:nvPr/>
          </p:nvSpPr>
          <p:spPr>
            <a:xfrm>
              <a:off x="2652840" y="3124080"/>
              <a:ext cx="409320" cy="381240"/>
            </a:xfrm>
            <a:prstGeom prst="downArrow">
              <a:avLst>
                <a:gd name="adj1" fmla="val 51935"/>
                <a:gd name="adj2" fmla="val 52083"/>
              </a:avLst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4" name=""/>
            <p:cNvGrpSpPr/>
            <p:nvPr/>
          </p:nvGrpSpPr>
          <p:grpSpPr>
            <a:xfrm>
              <a:off x="2286000" y="3505320"/>
              <a:ext cx="1143000" cy="2971800"/>
              <a:chOff x="2286000" y="3505320"/>
              <a:chExt cx="1143000" cy="2971800"/>
            </a:xfrm>
          </p:grpSpPr>
          <p:sp>
            <p:nvSpPr>
              <p:cNvPr id="575" name=""/>
              <p:cNvSpPr/>
              <p:nvPr/>
            </p:nvSpPr>
            <p:spPr>
              <a:xfrm>
                <a:off x="2286000" y="3505320"/>
                <a:ext cx="1143000" cy="609480"/>
              </a:xfrm>
              <a:prstGeom prst="rect">
                <a:avLst/>
              </a:prstGeom>
              <a:solidFill>
                <a:srgbClr val="ff99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Franklin Gothic Medium Cond"/>
                  </a:rPr>
                  <a:t>Categoría 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286000" y="4191120"/>
                <a:ext cx="1143000" cy="609480"/>
              </a:xfrm>
              <a:prstGeom prst="rect">
                <a:avLst/>
              </a:prstGeom>
              <a:solidFill>
                <a:srgbClr val="ff99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Franklin Gothic Medium Cond"/>
                  </a:rPr>
                  <a:t>Categoría 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286000" y="5029200"/>
                <a:ext cx="1143000" cy="609480"/>
              </a:xfrm>
              <a:prstGeom prst="rect">
                <a:avLst/>
              </a:prstGeom>
              <a:solidFill>
                <a:srgbClr val="ff99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Franklin Gothic Medium Cond"/>
                  </a:rPr>
                  <a:t>Categoría j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286000" y="5867280"/>
                <a:ext cx="1143000" cy="609840"/>
              </a:xfrm>
              <a:prstGeom prst="rect">
                <a:avLst/>
              </a:prstGeom>
              <a:solidFill>
                <a:srgbClr val="ff99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Franklin Gothic Medium Cond"/>
                  </a:rPr>
                  <a:t>Categoría q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9" name=""/>
          <p:cNvGrpSpPr/>
          <p:nvPr/>
        </p:nvGrpSpPr>
        <p:grpSpPr>
          <a:xfrm>
            <a:off x="3809880" y="3505320"/>
            <a:ext cx="5105520" cy="2971800"/>
            <a:chOff x="3809880" y="3505320"/>
            <a:chExt cx="5105520" cy="2971800"/>
          </a:xfrm>
        </p:grpSpPr>
        <p:sp>
          <p:nvSpPr>
            <p:cNvPr id="580" name=""/>
            <p:cNvSpPr/>
            <p:nvPr/>
          </p:nvSpPr>
          <p:spPr>
            <a:xfrm>
              <a:off x="3809880" y="3505320"/>
              <a:ext cx="5105520" cy="2971800"/>
            </a:xfrm>
            <a:prstGeom prst="rect">
              <a:avLst/>
            </a:prstGeom>
            <a:solidFill>
              <a:srgbClr val="808080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Franklin Gothic Medium Cond"/>
                </a:rPr>
                <a:t>Muestra (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809880" y="3505320"/>
              <a:ext cx="1143000" cy="60948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Franklin Gothic Medium Cond"/>
                </a:rPr>
                <a:t>Grupo 1,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Franklin Gothic Medium Cond"/>
                </a:rPr>
                <a:t>y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Franklin Gothic Medium Cond"/>
                </a:rPr>
                <a:t>i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029200" y="3505320"/>
              <a:ext cx="1143000" cy="60948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Franklin Gothic Medium Cond"/>
                </a:rPr>
                <a:t>Grupo 1,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Franklin Gothic Medium Cond"/>
                </a:rPr>
                <a:t>y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Franklin Gothic Medium Cond"/>
                </a:rPr>
                <a:t>i1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400800" y="3505320"/>
              <a:ext cx="1143000" cy="60948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Franklin Gothic Medium Cond"/>
                </a:rPr>
                <a:t>Grupo 1,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Franklin Gothic Medium Cond"/>
                </a:rPr>
                <a:t>y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Franklin Gothic Medium Cond"/>
                </a:rPr>
                <a:t>i1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772400" y="3505320"/>
              <a:ext cx="1143000" cy="60948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Franklin Gothic Medium Cond"/>
                </a:rPr>
                <a:t>Grupo 1,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Franklin Gothic Medium Cond"/>
                </a:rPr>
                <a:t>y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Franklin Gothic Medium Cond"/>
                </a:rPr>
                <a:t>i1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809880" y="4191120"/>
              <a:ext cx="1143000" cy="60948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Franklin Gothic Medium Cond"/>
                </a:rPr>
                <a:t>Grupo 2,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Franklin Gothic Medium Cond"/>
                </a:rPr>
                <a:t>y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Franklin Gothic Medium Cond"/>
                </a:rPr>
                <a:t>i2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029200" y="4191120"/>
              <a:ext cx="1143000" cy="60948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Franklin Gothic Medium Cond"/>
                </a:rPr>
                <a:t>Grupo 2,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Franklin Gothic Medium Cond"/>
                </a:rPr>
                <a:t>y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Franklin Gothic Medium Cond"/>
                </a:rPr>
                <a:t>i2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400800" y="4191120"/>
              <a:ext cx="1143000" cy="60948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Franklin Gothic Medium Cond"/>
                </a:rPr>
                <a:t>Grupo 2,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Franklin Gothic Medium Cond"/>
                </a:rPr>
                <a:t>y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Franklin Gothic Medium Cond"/>
                </a:rPr>
                <a:t>i2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772400" y="4191120"/>
              <a:ext cx="1143000" cy="60948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Franklin Gothic Medium Cond"/>
                </a:rPr>
                <a:t>Grupo 2,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Franklin Gothic Medium Cond"/>
                </a:rPr>
                <a:t>y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Franklin Gothic Medium Cond"/>
                </a:rPr>
                <a:t>i2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809880" y="5029200"/>
              <a:ext cx="1143000" cy="60948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Franklin Gothic Medium Cond"/>
                </a:rPr>
                <a:t>Grupo j,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Franklin Gothic Medium Cond"/>
                </a:rPr>
                <a:t>y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Franklin Gothic Medium Cond"/>
                </a:rPr>
                <a:t>ij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029200" y="5029200"/>
              <a:ext cx="1143000" cy="60948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Franklin Gothic Medium Cond"/>
                </a:rPr>
                <a:t>Grupo j,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Franklin Gothic Medium Cond"/>
                </a:rPr>
                <a:t>y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Franklin Gothic Medium Cond"/>
                </a:rPr>
                <a:t>ij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400800" y="5029200"/>
              <a:ext cx="1143000" cy="60948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Franklin Gothic Medium Cond"/>
                </a:rPr>
                <a:t>Grupo j,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Franklin Gothic Medium Cond"/>
                </a:rPr>
                <a:t>y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Franklin Gothic Medium Cond"/>
                </a:rPr>
                <a:t>ij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772400" y="5029200"/>
              <a:ext cx="1143000" cy="60948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Franklin Gothic Medium Cond"/>
                </a:rPr>
                <a:t>Grupo j,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Franklin Gothic Medium Cond"/>
                </a:rPr>
                <a:t>y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Franklin Gothic Medium Cond"/>
                </a:rPr>
                <a:t>ij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809880" y="5867280"/>
              <a:ext cx="1143000" cy="60984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Franklin Gothic Medium Cond"/>
                </a:rPr>
                <a:t>Grupo q,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Franklin Gothic Medium Cond"/>
                </a:rPr>
                <a:t>y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Franklin Gothic Medium Cond"/>
                </a:rPr>
                <a:t>iq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029200" y="5867280"/>
              <a:ext cx="1143000" cy="60984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Franklin Gothic Medium Cond"/>
                </a:rPr>
                <a:t>Grupo q,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Franklin Gothic Medium Cond"/>
                </a:rPr>
                <a:t>y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Franklin Gothic Medium Cond"/>
                </a:rPr>
                <a:t>iq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400800" y="5867280"/>
              <a:ext cx="1143000" cy="60984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Franklin Gothic Medium Cond"/>
                </a:rPr>
                <a:t>Grupo q,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Franklin Gothic Medium Cond"/>
                </a:rPr>
                <a:t>y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Franklin Gothic Medium Cond"/>
                </a:rPr>
                <a:t>iq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772400" y="5867280"/>
              <a:ext cx="1143000" cy="60984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Franklin Gothic Medium Cond"/>
                </a:rPr>
                <a:t>Grupo q,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Franklin Gothic Medium Cond"/>
                </a:rPr>
                <a:t>y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Franklin Gothic Medium Cond"/>
                </a:rPr>
                <a:t>iq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7" name=""/>
          <p:cNvSpPr/>
          <p:nvPr/>
        </p:nvSpPr>
        <p:spPr>
          <a:xfrm>
            <a:off x="2286000" y="2514600"/>
            <a:ext cx="1143000" cy="60948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Medium Cond"/>
              </a:rPr>
              <a:t>Factor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Medium Cond"/>
              </a:rPr>
              <a:t>Factor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600200" y="762120"/>
            <a:ext cx="7543800" cy="6095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92640" y="223920"/>
            <a:ext cx="720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Franklin Gothic Medium Cond"/>
              </a:rPr>
              <a:t>ANOVA: Análisis Univariable de la Varianza: </a:t>
            </a:r>
            <a:r>
              <a:rPr b="0" lang="en-US" sz="1800" spc="-1" strike="noStrike">
                <a:solidFill>
                  <a:srgbClr val="ff9900"/>
                </a:solidFill>
                <a:latin typeface="Franklin Gothic Medium Cond"/>
              </a:rPr>
              <a:t>ANOVA con k fact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286000" y="1143000"/>
            <a:ext cx="6858000" cy="685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Mod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0" y="3657600"/>
            <a:ext cx="1600200" cy="2973600"/>
            <a:chOff x="0" y="3657600"/>
            <a:chExt cx="1600200" cy="2973600"/>
          </a:xfrm>
        </p:grpSpPr>
        <p:sp>
          <p:nvSpPr>
            <p:cNvPr id="604" name=""/>
            <p:cNvSpPr/>
            <p:nvPr/>
          </p:nvSpPr>
          <p:spPr>
            <a:xfrm>
              <a:off x="0" y="41911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0" y="47545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M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0" y="5288040"/>
              <a:ext cx="1600200" cy="45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ANCOVA-MANC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0" y="58212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Medidas Repetid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0" y="63547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Ejempl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0" y="36576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9900"/>
                  </a:solidFill>
                  <a:latin typeface="Franklin Gothic Medium Cond"/>
                </a:rPr>
                <a:t>introduc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0" y="3657600"/>
            <a:ext cx="1600200" cy="810000"/>
            <a:chOff x="0" y="3657600"/>
            <a:chExt cx="1600200" cy="810000"/>
          </a:xfrm>
        </p:grpSpPr>
        <p:sp>
          <p:nvSpPr>
            <p:cNvPr id="611" name=""/>
            <p:cNvSpPr/>
            <p:nvPr/>
          </p:nvSpPr>
          <p:spPr>
            <a:xfrm>
              <a:off x="0" y="41911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9900"/>
                  </a:solidFill>
                  <a:latin typeface="Franklin Gothic Medium Cond"/>
                </a:rPr>
                <a:t>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0" y="36576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introduc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2286000" y="1981080"/>
            <a:ext cx="685800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Mod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4" name=""/>
              <p:cNvSpPr txBox="1"/>
              <p:nvPr/>
            </p:nvSpPr>
            <p:spPr>
              <a:xfrm>
                <a:off x="3051000" y="2184480"/>
                <a:ext cx="532620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αβ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15" name=""/>
          <p:cNvSpPr/>
          <p:nvPr/>
        </p:nvSpPr>
        <p:spPr>
          <a:xfrm>
            <a:off x="2286000" y="3200400"/>
            <a:ext cx="68580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Medium Cond"/>
              </a:rPr>
              <a:t>Respecto al factor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6" name=""/>
              <p:cNvSpPr txBox="1"/>
              <p:nvPr/>
            </p:nvSpPr>
            <p:spPr>
              <a:xfrm>
                <a:off x="4952880" y="3352680"/>
                <a:ext cx="32004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: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: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  para algún valor de k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17" name=""/>
          <p:cNvSpPr/>
          <p:nvPr/>
        </p:nvSpPr>
        <p:spPr>
          <a:xfrm>
            <a:off x="2286000" y="4419720"/>
            <a:ext cx="68580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Medium Cond"/>
              </a:rPr>
              <a:t>Respecto al factor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8" name=""/>
              <p:cNvSpPr txBox="1"/>
              <p:nvPr/>
            </p:nvSpPr>
            <p:spPr>
              <a:xfrm>
                <a:off x="5010120" y="4552920"/>
                <a:ext cx="3086280" cy="8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: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: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  para algún valor de 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19" name=""/>
          <p:cNvSpPr/>
          <p:nvPr/>
        </p:nvSpPr>
        <p:spPr>
          <a:xfrm>
            <a:off x="2286000" y="5638680"/>
            <a:ext cx="685800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Franklin Gothic Medium Cond"/>
              </a:rPr>
              <a:t>Respecto a interacción Ax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5029200" y="5772240"/>
                <a:ext cx="3790800" cy="81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αβ</m:t>
                        </m:r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∀</m:t>
                        </m:r>
                        <m:r>
                          <m:rPr>
                            <m:lit/>
                            <m:nor/>
                          </m:rPr>
                          <m:t xml:space="preserve"> k , j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αβ</m:t>
                        </m:r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sub>
                        </m:sSub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  para algún valor de k y 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600200" y="762120"/>
            <a:ext cx="7543800" cy="6095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92640" y="223920"/>
            <a:ext cx="720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Franklin Gothic Medium Cond"/>
              </a:rPr>
              <a:t>ANOVA: Análisis Univariable de la Varianza: </a:t>
            </a:r>
            <a:r>
              <a:rPr b="0" lang="en-US" sz="1800" spc="-1" strike="noStrike">
                <a:solidFill>
                  <a:srgbClr val="ff9900"/>
                </a:solidFill>
                <a:latin typeface="Franklin Gothic Medium Cond"/>
              </a:rPr>
              <a:t>ANOVA con k fact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286000" y="1143000"/>
            <a:ext cx="6858000" cy="685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Supue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0" y="3657600"/>
            <a:ext cx="1600200" cy="2973600"/>
            <a:chOff x="0" y="3657600"/>
            <a:chExt cx="1600200" cy="2973600"/>
          </a:xfrm>
        </p:grpSpPr>
        <p:sp>
          <p:nvSpPr>
            <p:cNvPr id="627" name=""/>
            <p:cNvSpPr/>
            <p:nvPr/>
          </p:nvSpPr>
          <p:spPr>
            <a:xfrm>
              <a:off x="0" y="41911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0" y="47545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M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0" y="5288040"/>
              <a:ext cx="1600200" cy="45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ANCOVA-MANC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0" y="58212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Medidas Repetid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0" y="63547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Ejempl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0" y="36576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9900"/>
                  </a:solidFill>
                  <a:latin typeface="Franklin Gothic Medium Cond"/>
                </a:rPr>
                <a:t>introduc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0" y="3657600"/>
            <a:ext cx="1600200" cy="810000"/>
            <a:chOff x="0" y="3657600"/>
            <a:chExt cx="1600200" cy="810000"/>
          </a:xfrm>
        </p:grpSpPr>
        <p:sp>
          <p:nvSpPr>
            <p:cNvPr id="634" name=""/>
            <p:cNvSpPr/>
            <p:nvPr/>
          </p:nvSpPr>
          <p:spPr>
            <a:xfrm>
              <a:off x="0" y="41911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9900"/>
                  </a:solidFill>
                  <a:latin typeface="Franklin Gothic Medium Cond"/>
                </a:rPr>
                <a:t>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0" y="36576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introduc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6" name=""/>
          <p:cNvSpPr/>
          <p:nvPr/>
        </p:nvSpPr>
        <p:spPr>
          <a:xfrm>
            <a:off x="2286000" y="1981080"/>
            <a:ext cx="6858000" cy="1371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9900"/>
                </a:solidFill>
                <a:latin typeface="Franklin Gothic Medium Cond"/>
              </a:rPr>
              <a:t>La variable dependiente sigue una distribución nor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Franklin Gothic Medium Cond"/>
              </a:rPr>
              <a:t>Representación gráfica y examen de curtosis y asimetr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Franklin Gothic Medium Cond"/>
              </a:rPr>
              <a:t>Test de normalidad de Kolmogorov-Smirno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286000" y="3505320"/>
            <a:ext cx="6858000" cy="1371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9900"/>
                </a:solidFill>
                <a:latin typeface="Franklin Gothic Medium Cond"/>
              </a:rPr>
              <a:t>Homocedasticidad (Homogeneidad de varianz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Franklin Gothic Medium Cond"/>
              </a:rPr>
              <a:t>Tests de Cochran y Bartle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Franklin Gothic Medium Cond"/>
              </a:rPr>
              <a:t>Test de Leve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286000" y="5029200"/>
            <a:ext cx="6858000" cy="1371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9900"/>
                </a:solidFill>
                <a:latin typeface="Franklin Gothic Medium Cond"/>
              </a:rPr>
              <a:t>Las submuestras son independientes y aleator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Franklin Gothic Medium Cond"/>
              </a:rPr>
              <a:t>Ambas características vienen determinadas por el modo de selección de las submuest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600200" y="762120"/>
            <a:ext cx="7543800" cy="6095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92640" y="223920"/>
            <a:ext cx="720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Franklin Gothic Medium Cond"/>
              </a:rPr>
              <a:t>ANOVA: Análisis Univariable de la Varianza: </a:t>
            </a:r>
            <a:r>
              <a:rPr b="0" lang="en-US" sz="1800" spc="-1" strike="noStrike">
                <a:solidFill>
                  <a:srgbClr val="ff9900"/>
                </a:solidFill>
                <a:latin typeface="Franklin Gothic Medium Cond"/>
              </a:rPr>
              <a:t>ANOVA con k fact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286000" y="1143000"/>
            <a:ext cx="6858000" cy="685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Descomposición de la varia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0" y="3657600"/>
            <a:ext cx="1600200" cy="2973600"/>
            <a:chOff x="0" y="3657600"/>
            <a:chExt cx="1600200" cy="2973600"/>
          </a:xfrm>
        </p:grpSpPr>
        <p:sp>
          <p:nvSpPr>
            <p:cNvPr id="645" name=""/>
            <p:cNvSpPr/>
            <p:nvPr/>
          </p:nvSpPr>
          <p:spPr>
            <a:xfrm>
              <a:off x="0" y="41911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0" y="47545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M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0" y="5288040"/>
              <a:ext cx="1600200" cy="45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ANCOVA-MANC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0" y="58212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Medidas Repetid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0" y="63547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Ejempl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0" y="36576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9900"/>
                  </a:solidFill>
                  <a:latin typeface="Franklin Gothic Medium Cond"/>
                </a:rPr>
                <a:t>introduc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1" name=""/>
          <p:cNvGrpSpPr/>
          <p:nvPr/>
        </p:nvGrpSpPr>
        <p:grpSpPr>
          <a:xfrm>
            <a:off x="0" y="3657600"/>
            <a:ext cx="1600200" cy="810000"/>
            <a:chOff x="0" y="3657600"/>
            <a:chExt cx="1600200" cy="810000"/>
          </a:xfrm>
        </p:grpSpPr>
        <p:sp>
          <p:nvSpPr>
            <p:cNvPr id="652" name=""/>
            <p:cNvSpPr/>
            <p:nvPr/>
          </p:nvSpPr>
          <p:spPr>
            <a:xfrm>
              <a:off x="0" y="41911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9900"/>
                  </a:solidFill>
                  <a:latin typeface="Franklin Gothic Medium Cond"/>
                </a:rPr>
                <a:t>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0" y="36576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introduc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4" name=""/>
          <p:cNvSpPr/>
          <p:nvPr/>
        </p:nvSpPr>
        <p:spPr>
          <a:xfrm>
            <a:off x="2286000" y="2057400"/>
            <a:ext cx="1143000" cy="106668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Franklin Gothic Medium Cond"/>
              </a:rPr>
              <a:t>S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3421800" y="2057400"/>
            <a:ext cx="5493600" cy="1066680"/>
            <a:chOff x="3421800" y="2057400"/>
            <a:chExt cx="5493600" cy="1066680"/>
          </a:xfrm>
        </p:grpSpPr>
        <p:sp>
          <p:nvSpPr>
            <p:cNvPr id="656" name=""/>
            <p:cNvSpPr/>
            <p:nvPr/>
          </p:nvSpPr>
          <p:spPr>
            <a:xfrm>
              <a:off x="7772400" y="2057400"/>
              <a:ext cx="1143000" cy="106668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Franklin Gothic Medium Cond"/>
                </a:rPr>
                <a:t>SC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733920" y="2057400"/>
              <a:ext cx="3733560" cy="106668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Franklin Gothic Medium Cond"/>
                </a:rPr>
                <a:t>S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460280" y="23623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Franklin Gothic Medium Cond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421800" y="23623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Franklin Gothic Medium Cond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2286000" y="4419720"/>
            <a:ext cx="1143000" cy="106668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Franklin Gothic Medium Cond"/>
              </a:rPr>
              <a:t>S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3421800" y="4419720"/>
            <a:ext cx="5493600" cy="1066680"/>
            <a:chOff x="3421800" y="4419720"/>
            <a:chExt cx="5493600" cy="1066680"/>
          </a:xfrm>
        </p:grpSpPr>
        <p:sp>
          <p:nvSpPr>
            <p:cNvPr id="662" name=""/>
            <p:cNvSpPr/>
            <p:nvPr/>
          </p:nvSpPr>
          <p:spPr>
            <a:xfrm>
              <a:off x="7772400" y="4419720"/>
              <a:ext cx="1143000" cy="106668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Franklin Gothic Medium Cond"/>
                </a:rPr>
                <a:t>SC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460280" y="4724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Franklin Gothic Medium Cond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421800" y="4724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Franklin Gothic Medium Cond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733920" y="4419720"/>
              <a:ext cx="990360" cy="106668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Franklin Gothic Medium Cond"/>
                </a:rPr>
                <a:t>SCE</a:t>
              </a:r>
              <a:r>
                <a:rPr b="0" lang="es-ES_tradnl" sz="2000" spc="-1" strike="noStrike" baseline="-25000">
                  <a:solidFill>
                    <a:srgbClr val="000000"/>
                  </a:solidFill>
                  <a:latin typeface="Franklin Gothic Medium Cond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4419720"/>
              <a:ext cx="990720" cy="106668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Franklin Gothic Medium Cond"/>
                </a:rPr>
                <a:t>SCE</a:t>
              </a:r>
              <a:r>
                <a:rPr b="0" lang="es-ES_tradnl" sz="2000" spc="-1" strike="noStrike" baseline="-25000">
                  <a:solidFill>
                    <a:srgbClr val="000000"/>
                  </a:solidFill>
                  <a:latin typeface="Franklin Gothic Medium Cond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324480" y="4419720"/>
              <a:ext cx="1143000" cy="106668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Franklin Gothic Medium Cond"/>
                </a:rPr>
                <a:t>SCE</a:t>
              </a:r>
              <a:r>
                <a:rPr b="0" lang="es-ES_tradnl" sz="2000" spc="-1" strike="noStrike" baseline="-25000">
                  <a:solidFill>
                    <a:srgbClr val="000000"/>
                  </a:solidFill>
                  <a:latin typeface="Franklin Gothic Medium Cond"/>
                </a:rPr>
                <a:t>Ax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012360" y="4724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Franklin Gothic Medium Cond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682160" y="4724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Franklin Gothic Medium Cond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0" name=""/>
          <p:cNvSpPr/>
          <p:nvPr/>
        </p:nvSpPr>
        <p:spPr>
          <a:xfrm>
            <a:off x="2286000" y="3200400"/>
            <a:ext cx="1143000" cy="106668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Franklin Gothic Medium Cond"/>
              </a:rPr>
              <a:t>Variabi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Franklin Gothic Medium Cond"/>
              </a:rPr>
              <a:t>to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3421800" y="3200400"/>
            <a:ext cx="5493600" cy="1066680"/>
            <a:chOff x="3421800" y="3200400"/>
            <a:chExt cx="5493600" cy="1066680"/>
          </a:xfrm>
        </p:grpSpPr>
        <p:sp>
          <p:nvSpPr>
            <p:cNvPr id="672" name=""/>
            <p:cNvSpPr/>
            <p:nvPr/>
          </p:nvSpPr>
          <p:spPr>
            <a:xfrm>
              <a:off x="7772400" y="3200400"/>
              <a:ext cx="1143000" cy="106668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Franklin Gothic Medium Cond"/>
                </a:rPr>
                <a:t>Variabilid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Franklin Gothic Medium Cond"/>
                </a:rPr>
                <a:t>residu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733920" y="3200400"/>
              <a:ext cx="3733560" cy="106668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Franklin Gothic Medium Cond"/>
                </a:rPr>
                <a:t>Variabilidad explica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Franklin Gothic Medium Cond"/>
                </a:rPr>
                <a:t>por el model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460280" y="35053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Franklin Gothic Medium Cond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421800" y="35053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Franklin Gothic Medium Cond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6" name=""/>
          <p:cNvSpPr/>
          <p:nvPr/>
        </p:nvSpPr>
        <p:spPr>
          <a:xfrm>
            <a:off x="2286000" y="5562720"/>
            <a:ext cx="1143000" cy="106668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Franklin Gothic Medium Cond"/>
              </a:rPr>
              <a:t>Variabi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Franklin Gothic Medium Cond"/>
              </a:rPr>
              <a:t>to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3421800" y="5562720"/>
            <a:ext cx="5493600" cy="1066680"/>
            <a:chOff x="3421800" y="5562720"/>
            <a:chExt cx="5493600" cy="1066680"/>
          </a:xfrm>
        </p:grpSpPr>
        <p:sp>
          <p:nvSpPr>
            <p:cNvPr id="678" name=""/>
            <p:cNvSpPr/>
            <p:nvPr/>
          </p:nvSpPr>
          <p:spPr>
            <a:xfrm>
              <a:off x="7772400" y="5562720"/>
              <a:ext cx="1143000" cy="106668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Franklin Gothic Medium Cond"/>
                </a:rPr>
                <a:t>Variabilid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Franklin Gothic Medium Cond"/>
                </a:rPr>
                <a:t>residu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460280" y="5867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Franklin Gothic Medium Cond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421800" y="5867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Franklin Gothic Medium Cond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733920" y="5562720"/>
              <a:ext cx="990360" cy="106668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Franklin Gothic Medium Cond"/>
                </a:rPr>
                <a:t>Variabilid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Franklin Gothic Medium Cond"/>
                </a:rPr>
                <a:t>debida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Franklin Gothic Medium Cond"/>
                </a:rPr>
                <a:t>Factor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029200" y="5562720"/>
              <a:ext cx="990720" cy="106668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Franklin Gothic Medium Cond"/>
                </a:rPr>
                <a:t>Variabilid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Franklin Gothic Medium Cond"/>
                </a:rPr>
                <a:t>debida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Franklin Gothic Medium Cond"/>
                </a:rPr>
                <a:t>Factor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324480" y="5562720"/>
              <a:ext cx="1143000" cy="106668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Franklin Gothic Medium Cond"/>
                </a:rPr>
                <a:t>Variabilid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Franklin Gothic Medium Cond"/>
                </a:rPr>
                <a:t>debida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Franklin Gothic Medium Cond"/>
                </a:rPr>
                <a:t>interac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Franklin Gothic Medium Cond"/>
                </a:rPr>
                <a:t>Ax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012360" y="5867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Franklin Gothic Medium Cond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682160" y="5867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Franklin Gothic Medium Cond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600200" y="762120"/>
            <a:ext cx="7543800" cy="6095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286000" y="1143000"/>
            <a:ext cx="6858000" cy="685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Tabla res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0" y="3657600"/>
            <a:ext cx="1600200" cy="2973600"/>
            <a:chOff x="0" y="3657600"/>
            <a:chExt cx="1600200" cy="2973600"/>
          </a:xfrm>
        </p:grpSpPr>
        <p:sp>
          <p:nvSpPr>
            <p:cNvPr id="691" name=""/>
            <p:cNvSpPr/>
            <p:nvPr/>
          </p:nvSpPr>
          <p:spPr>
            <a:xfrm>
              <a:off x="0" y="41911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0" y="47545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M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0" y="5288040"/>
              <a:ext cx="1600200" cy="45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ANCOVA-MANC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0" y="58212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Medidas Repetid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0" y="63547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Ejempl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0" y="36576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9900"/>
                  </a:solidFill>
                  <a:latin typeface="Franklin Gothic Medium Cond"/>
                </a:rPr>
                <a:t>introduc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7" name=""/>
          <p:cNvGrpSpPr/>
          <p:nvPr/>
        </p:nvGrpSpPr>
        <p:grpSpPr>
          <a:xfrm>
            <a:off x="0" y="3657600"/>
            <a:ext cx="1600200" cy="810000"/>
            <a:chOff x="0" y="3657600"/>
            <a:chExt cx="1600200" cy="810000"/>
          </a:xfrm>
        </p:grpSpPr>
        <p:sp>
          <p:nvSpPr>
            <p:cNvPr id="698" name=""/>
            <p:cNvSpPr/>
            <p:nvPr/>
          </p:nvSpPr>
          <p:spPr>
            <a:xfrm>
              <a:off x="0" y="41911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9900"/>
                  </a:solidFill>
                  <a:latin typeface="Franklin Gothic Medium Cond"/>
                </a:rPr>
                <a:t>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0" y="36576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introduc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0" name=""/>
          <p:cNvGrpSpPr/>
          <p:nvPr/>
        </p:nvGrpSpPr>
        <p:grpSpPr>
          <a:xfrm>
            <a:off x="2286000" y="2057400"/>
            <a:ext cx="6705720" cy="685800"/>
            <a:chOff x="2286000" y="2057400"/>
            <a:chExt cx="6705720" cy="685800"/>
          </a:xfrm>
        </p:grpSpPr>
        <p:sp>
          <p:nvSpPr>
            <p:cNvPr id="701" name=""/>
            <p:cNvSpPr/>
            <p:nvPr/>
          </p:nvSpPr>
          <p:spPr>
            <a:xfrm>
              <a:off x="2286000" y="2057400"/>
              <a:ext cx="1219320" cy="6858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Franklin Gothic Medium Cond"/>
                </a:rPr>
                <a:t>Fuente 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Franklin Gothic Medium Cond"/>
                </a:rPr>
                <a:t>vari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581280" y="2057400"/>
              <a:ext cx="914400" cy="6858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Franklin Gothic Medium Cond"/>
                </a:rPr>
                <a:t>Suma C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572000" y="2057400"/>
              <a:ext cx="990720" cy="6858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Franklin Gothic Medium Cond"/>
                </a:rPr>
                <a:t>g.d.l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934320" y="2057400"/>
              <a:ext cx="2057400" cy="6858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Franklin Gothic Medium Cond"/>
                </a:rPr>
                <a:t>Estadísti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Franklin Gothic Medium Cond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638680" y="2057400"/>
              <a:ext cx="1219320" cy="6858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Franklin Gothic Medium Cond"/>
                </a:rPr>
                <a:t>Medi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Franklin Gothic Medium Cond"/>
                </a:rPr>
                <a:t>cuadrátic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6" name=""/>
          <p:cNvSpPr/>
          <p:nvPr/>
        </p:nvSpPr>
        <p:spPr>
          <a:xfrm>
            <a:off x="692640" y="223920"/>
            <a:ext cx="720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Franklin Gothic Medium Cond"/>
              </a:rPr>
              <a:t>ANOVA: Análisis Univariable de la Varianza: </a:t>
            </a:r>
            <a:r>
              <a:rPr b="0" lang="en-US" sz="1800" spc="-1" strike="noStrike">
                <a:solidFill>
                  <a:srgbClr val="ff9900"/>
                </a:solidFill>
                <a:latin typeface="Franklin Gothic Medium Cond"/>
              </a:rPr>
              <a:t>ANOVA con k fact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7" name=""/>
          <p:cNvGrpSpPr/>
          <p:nvPr/>
        </p:nvGrpSpPr>
        <p:grpSpPr>
          <a:xfrm>
            <a:off x="3581280" y="2819520"/>
            <a:ext cx="5410440" cy="685800"/>
            <a:chOff x="3581280" y="2819520"/>
            <a:chExt cx="5410440" cy="685800"/>
          </a:xfrm>
        </p:grpSpPr>
        <p:sp>
          <p:nvSpPr>
            <p:cNvPr id="708" name=""/>
            <p:cNvSpPr/>
            <p:nvPr/>
          </p:nvSpPr>
          <p:spPr>
            <a:xfrm>
              <a:off x="3581280" y="2819520"/>
              <a:ext cx="914400" cy="685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Franklin Gothic Medium Cond"/>
                </a:rPr>
                <a:t>SCE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Franklin Gothic Medium Cond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572000" y="2819520"/>
              <a:ext cx="990720" cy="685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Franklin Gothic Medium Cond"/>
                </a:rPr>
                <a:t>p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638680" y="2819520"/>
              <a:ext cx="1219320" cy="685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11" name=""/>
                <p:cNvSpPr txBox="1"/>
                <p:nvPr/>
              </p:nvSpPr>
              <p:spPr>
                <a:xfrm>
                  <a:off x="6172200" y="2894040"/>
                  <a:ext cx="612720" cy="61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CE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p-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712" name=""/>
            <p:cNvSpPr/>
            <p:nvPr/>
          </p:nvSpPr>
          <p:spPr>
            <a:xfrm>
              <a:off x="6934320" y="2819520"/>
              <a:ext cx="2057400" cy="685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13" name=""/>
                <p:cNvSpPr txBox="1"/>
                <p:nvPr/>
              </p:nvSpPr>
              <p:spPr>
                <a:xfrm>
                  <a:off x="7772400" y="2870280"/>
                  <a:ext cx="1146240" cy="63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CE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  <m:r>
                            <m:t xml:space="preserve">/</m:t>
                          </m:r>
                          <m:r>
                            <m:t xml:space="preserve">p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SCR</m:t>
                          </m:r>
                          <m:r>
                            <m:t xml:space="preserve">/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pq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14" name=""/>
          <p:cNvGrpSpPr/>
          <p:nvPr/>
        </p:nvGrpSpPr>
        <p:grpSpPr>
          <a:xfrm>
            <a:off x="3581280" y="3581280"/>
            <a:ext cx="5410440" cy="685800"/>
            <a:chOff x="3581280" y="3581280"/>
            <a:chExt cx="5410440" cy="685800"/>
          </a:xfrm>
        </p:grpSpPr>
        <p:sp>
          <p:nvSpPr>
            <p:cNvPr id="715" name=""/>
            <p:cNvSpPr/>
            <p:nvPr/>
          </p:nvSpPr>
          <p:spPr>
            <a:xfrm>
              <a:off x="3581280" y="3581280"/>
              <a:ext cx="914400" cy="685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Franklin Gothic Medium Cond"/>
                </a:rPr>
                <a:t>SCE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Franklin Gothic Medium Cond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572000" y="3581280"/>
              <a:ext cx="990720" cy="685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Franklin Gothic Medium Cond"/>
                </a:rPr>
                <a:t>q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638680" y="3581280"/>
              <a:ext cx="1219320" cy="685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18" name=""/>
                <p:cNvSpPr txBox="1"/>
                <p:nvPr/>
              </p:nvSpPr>
              <p:spPr>
                <a:xfrm>
                  <a:off x="6180120" y="3656160"/>
                  <a:ext cx="595440" cy="610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CE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q-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719" name=""/>
            <p:cNvSpPr/>
            <p:nvPr/>
          </p:nvSpPr>
          <p:spPr>
            <a:xfrm>
              <a:off x="6934320" y="3581280"/>
              <a:ext cx="2057400" cy="685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20" name=""/>
                <p:cNvSpPr txBox="1"/>
                <p:nvPr/>
              </p:nvSpPr>
              <p:spPr>
                <a:xfrm>
                  <a:off x="7772400" y="3632040"/>
                  <a:ext cx="1146240" cy="63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CE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r>
                            <m:t xml:space="preserve">/</m:t>
                          </m:r>
                          <m:r>
                            <m:t xml:space="preserve">q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SCR</m:t>
                          </m:r>
                          <m:r>
                            <m:t xml:space="preserve">/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pq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21" name=""/>
          <p:cNvGrpSpPr/>
          <p:nvPr/>
        </p:nvGrpSpPr>
        <p:grpSpPr>
          <a:xfrm>
            <a:off x="3581280" y="4343400"/>
            <a:ext cx="5410440" cy="685800"/>
            <a:chOff x="3581280" y="4343400"/>
            <a:chExt cx="5410440" cy="685800"/>
          </a:xfrm>
        </p:grpSpPr>
        <p:sp>
          <p:nvSpPr>
            <p:cNvPr id="722" name=""/>
            <p:cNvSpPr/>
            <p:nvPr/>
          </p:nvSpPr>
          <p:spPr>
            <a:xfrm>
              <a:off x="3581280" y="4343400"/>
              <a:ext cx="914400" cy="685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SCE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Franklin Gothic Medium Cond"/>
                </a:rPr>
                <a:t>Ax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572000" y="4343400"/>
              <a:ext cx="990720" cy="685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Franklin Gothic Medium Cond"/>
                </a:rPr>
                <a:t>(p-1)(q-1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638680" y="4343400"/>
              <a:ext cx="1219320" cy="685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25" name=""/>
                <p:cNvSpPr txBox="1"/>
                <p:nvPr/>
              </p:nvSpPr>
              <p:spPr>
                <a:xfrm>
                  <a:off x="5791320" y="4417920"/>
                  <a:ext cx="1009440" cy="61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CE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xB</m:t>
                              </m:r>
                            </m:sub>
                          </m:sSub>
                        </m:num>
                        <m:den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p-1</m:t>
                          </m:r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q-1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726" name=""/>
            <p:cNvSpPr/>
            <p:nvPr/>
          </p:nvSpPr>
          <p:spPr>
            <a:xfrm>
              <a:off x="6934320" y="4343400"/>
              <a:ext cx="2057400" cy="685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27" name=""/>
                <p:cNvSpPr txBox="1"/>
                <p:nvPr/>
              </p:nvSpPr>
              <p:spPr>
                <a:xfrm>
                  <a:off x="7086600" y="4394160"/>
                  <a:ext cx="1817640" cy="63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CE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xB</m:t>
                              </m:r>
                            </m:sub>
                          </m:sSub>
                          <m:r>
                            <m:t xml:space="preserve">/</m:t>
                          </m:r>
                          <m:r>
                            <m:t xml:space="preserve">(</m:t>
                          </m:r>
                          <m:r>
                            <m:t xml:space="preserve">p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r>
                            <m:t xml:space="preserve">q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SCR</m:t>
                          </m:r>
                          <m:r>
                            <m:t xml:space="preserve">/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pq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28" name=""/>
          <p:cNvGrpSpPr/>
          <p:nvPr/>
        </p:nvGrpSpPr>
        <p:grpSpPr>
          <a:xfrm>
            <a:off x="3581280" y="5105520"/>
            <a:ext cx="5410440" cy="685800"/>
            <a:chOff x="3581280" y="5105520"/>
            <a:chExt cx="5410440" cy="685800"/>
          </a:xfrm>
        </p:grpSpPr>
        <p:sp>
          <p:nvSpPr>
            <p:cNvPr id="729" name=""/>
            <p:cNvSpPr/>
            <p:nvPr/>
          </p:nvSpPr>
          <p:spPr>
            <a:xfrm>
              <a:off x="3581280" y="5105520"/>
              <a:ext cx="914400" cy="685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Franklin Gothic Medium Cond"/>
                </a:rPr>
                <a:t>SC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572000" y="5105520"/>
              <a:ext cx="990720" cy="685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n-(pq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638680" y="5105520"/>
              <a:ext cx="1219320" cy="685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32" name="" descr=""/>
            <p:cNvPicPr/>
            <p:nvPr/>
          </p:nvPicPr>
          <p:blipFill>
            <a:blip r:embed="rId1"/>
            <a:stretch/>
          </p:blipFill>
          <p:spPr>
            <a:xfrm>
              <a:off x="6138720" y="5180040"/>
              <a:ext cx="679680" cy="6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3" name=""/>
            <p:cNvSpPr/>
            <p:nvPr/>
          </p:nvSpPr>
          <p:spPr>
            <a:xfrm>
              <a:off x="6934320" y="5105520"/>
              <a:ext cx="2057400" cy="685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4" name=""/>
          <p:cNvGrpSpPr/>
          <p:nvPr/>
        </p:nvGrpSpPr>
        <p:grpSpPr>
          <a:xfrm>
            <a:off x="2286000" y="2819520"/>
            <a:ext cx="1219320" cy="3733560"/>
            <a:chOff x="2286000" y="2819520"/>
            <a:chExt cx="1219320" cy="3733560"/>
          </a:xfrm>
        </p:grpSpPr>
        <p:sp>
          <p:nvSpPr>
            <p:cNvPr id="735" name=""/>
            <p:cNvSpPr/>
            <p:nvPr/>
          </p:nvSpPr>
          <p:spPr>
            <a:xfrm>
              <a:off x="2286000" y="2819520"/>
              <a:ext cx="1219320" cy="685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Franklin Gothic Medium Cond"/>
                </a:rPr>
                <a:t>Factor 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286000" y="3581280"/>
              <a:ext cx="1219320" cy="685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Franklin Gothic Medium Cond"/>
                </a:rPr>
                <a:t>Factor 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286000" y="4343400"/>
              <a:ext cx="1219320" cy="685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Ax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286000" y="5105520"/>
              <a:ext cx="1219320" cy="685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Franklin Gothic Medium Cond"/>
                </a:rPr>
                <a:t>Residu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86000" y="5867280"/>
              <a:ext cx="1219320" cy="685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Franklin Gothic Medium Cond"/>
                </a:rPr>
                <a:t>Tot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0" name=""/>
          <p:cNvGrpSpPr/>
          <p:nvPr/>
        </p:nvGrpSpPr>
        <p:grpSpPr>
          <a:xfrm>
            <a:off x="3581280" y="5867280"/>
            <a:ext cx="5410440" cy="685800"/>
            <a:chOff x="3581280" y="5867280"/>
            <a:chExt cx="5410440" cy="685800"/>
          </a:xfrm>
        </p:grpSpPr>
        <p:sp>
          <p:nvSpPr>
            <p:cNvPr id="741" name=""/>
            <p:cNvSpPr/>
            <p:nvPr/>
          </p:nvSpPr>
          <p:spPr>
            <a:xfrm>
              <a:off x="3581280" y="5867280"/>
              <a:ext cx="914400" cy="685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Franklin Gothic Medium Cond"/>
                </a:rPr>
                <a:t>S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572000" y="5867280"/>
              <a:ext cx="990720" cy="685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Franklin Gothic Medium Cond"/>
                </a:rPr>
                <a:t>n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638680" y="5867280"/>
              <a:ext cx="1219320" cy="685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4" name=""/>
                <p:cNvSpPr txBox="1"/>
                <p:nvPr/>
              </p:nvSpPr>
              <p:spPr>
                <a:xfrm>
                  <a:off x="6237360" y="5967360"/>
                  <a:ext cx="480960" cy="56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SCT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n-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745" name=""/>
            <p:cNvSpPr/>
            <p:nvPr/>
          </p:nvSpPr>
          <p:spPr>
            <a:xfrm>
              <a:off x="6934320" y="5867280"/>
              <a:ext cx="2057400" cy="685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600200" y="762120"/>
            <a:ext cx="7543800" cy="6095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286000" y="1143000"/>
            <a:ext cx="6858000" cy="685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Medida de ef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"/>
          <p:cNvGrpSpPr/>
          <p:nvPr/>
        </p:nvGrpSpPr>
        <p:grpSpPr>
          <a:xfrm>
            <a:off x="0" y="3657600"/>
            <a:ext cx="1600200" cy="2973600"/>
            <a:chOff x="0" y="3657600"/>
            <a:chExt cx="1600200" cy="2973600"/>
          </a:xfrm>
        </p:grpSpPr>
        <p:sp>
          <p:nvSpPr>
            <p:cNvPr id="751" name=""/>
            <p:cNvSpPr/>
            <p:nvPr/>
          </p:nvSpPr>
          <p:spPr>
            <a:xfrm>
              <a:off x="0" y="41911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0" y="47545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M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0" y="5288040"/>
              <a:ext cx="1600200" cy="45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ANCOVA-MANC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0" y="58212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Medidas Repetid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0" y="63547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Ejempl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0" y="36576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9900"/>
                  </a:solidFill>
                  <a:latin typeface="Franklin Gothic Medium Cond"/>
                </a:rPr>
                <a:t>introduc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7" name=""/>
          <p:cNvGrpSpPr/>
          <p:nvPr/>
        </p:nvGrpSpPr>
        <p:grpSpPr>
          <a:xfrm>
            <a:off x="0" y="3657600"/>
            <a:ext cx="1600200" cy="810000"/>
            <a:chOff x="0" y="3657600"/>
            <a:chExt cx="1600200" cy="810000"/>
          </a:xfrm>
        </p:grpSpPr>
        <p:sp>
          <p:nvSpPr>
            <p:cNvPr id="758" name=""/>
            <p:cNvSpPr/>
            <p:nvPr/>
          </p:nvSpPr>
          <p:spPr>
            <a:xfrm>
              <a:off x="0" y="41911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9900"/>
                  </a:solidFill>
                  <a:latin typeface="Franklin Gothic Medium Cond"/>
                </a:rPr>
                <a:t>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0" y="36576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introduc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0" name=""/>
          <p:cNvSpPr/>
          <p:nvPr/>
        </p:nvSpPr>
        <p:spPr>
          <a:xfrm>
            <a:off x="2286000" y="2209680"/>
            <a:ext cx="68580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 Cond"/>
              </a:rPr>
              <a:t>Para factor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1" name=""/>
              <p:cNvSpPr txBox="1"/>
              <p:nvPr/>
            </p:nvSpPr>
            <p:spPr>
              <a:xfrm>
                <a:off x="5497560" y="2413080"/>
                <a:ext cx="280188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CE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CE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C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62" name=""/>
          <p:cNvSpPr/>
          <p:nvPr/>
        </p:nvSpPr>
        <p:spPr>
          <a:xfrm>
            <a:off x="692640" y="223920"/>
            <a:ext cx="720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Franklin Gothic Medium Cond"/>
              </a:rPr>
              <a:t>ANOVA: Análisis Univariable de la Varianza: </a:t>
            </a:r>
            <a:r>
              <a:rPr b="0" lang="en-US" sz="1800" spc="-1" strike="noStrike">
                <a:solidFill>
                  <a:srgbClr val="ff9900"/>
                </a:solidFill>
                <a:latin typeface="Franklin Gothic Medium Cond"/>
              </a:rPr>
              <a:t>ANOVA con k fact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286000" y="3581280"/>
            <a:ext cx="68580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 Cond"/>
              </a:rPr>
              <a:t>Para factor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2286000" y="4952880"/>
            <a:ext cx="68580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Franklin Gothic Medium Cond"/>
              </a:rPr>
              <a:t>Para interacción Ax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5" name=""/>
              <p:cNvSpPr txBox="1"/>
              <p:nvPr/>
            </p:nvSpPr>
            <p:spPr>
              <a:xfrm>
                <a:off x="5497560" y="3787920"/>
                <a:ext cx="277812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CE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CE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C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6" name=""/>
              <p:cNvSpPr txBox="1"/>
              <p:nvPr/>
            </p:nvSpPr>
            <p:spPr>
              <a:xfrm>
                <a:off x="5497560" y="5162400"/>
                <a:ext cx="338940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η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xB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xB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C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x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C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xB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C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/>
          <p:nvPr/>
        </p:nvSpPr>
        <p:spPr>
          <a:xfrm>
            <a:off x="1600200" y="762120"/>
            <a:ext cx="7543800" cy="6095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2286000" y="2666880"/>
            <a:ext cx="6858000" cy="4191120"/>
            <a:chOff x="2286000" y="2666880"/>
            <a:chExt cx="6858000" cy="4191120"/>
          </a:xfrm>
        </p:grpSpPr>
        <p:sp>
          <p:nvSpPr>
            <p:cNvPr id="769" name=""/>
            <p:cNvSpPr/>
            <p:nvPr/>
          </p:nvSpPr>
          <p:spPr>
            <a:xfrm>
              <a:off x="2286000" y="2666880"/>
              <a:ext cx="6858000" cy="4191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70" name="Graph1" descr=""/>
            <p:cNvPicPr/>
            <p:nvPr/>
          </p:nvPicPr>
          <p:blipFill>
            <a:blip r:embed="rId1"/>
            <a:stretch/>
          </p:blipFill>
          <p:spPr>
            <a:xfrm>
              <a:off x="2286000" y="2666880"/>
              <a:ext cx="6477120" cy="419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1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286000" y="1143000"/>
            <a:ext cx="6858000" cy="685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Franklin Gothic Medium Cond"/>
              </a:rPr>
              <a:t>Análisis post-ho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4" name=""/>
          <p:cNvGrpSpPr/>
          <p:nvPr/>
        </p:nvGrpSpPr>
        <p:grpSpPr>
          <a:xfrm>
            <a:off x="0" y="3657600"/>
            <a:ext cx="1600200" cy="2973600"/>
            <a:chOff x="0" y="3657600"/>
            <a:chExt cx="1600200" cy="2973600"/>
          </a:xfrm>
        </p:grpSpPr>
        <p:sp>
          <p:nvSpPr>
            <p:cNvPr id="775" name=""/>
            <p:cNvSpPr/>
            <p:nvPr/>
          </p:nvSpPr>
          <p:spPr>
            <a:xfrm>
              <a:off x="0" y="41911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0" y="47545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M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0" y="5288040"/>
              <a:ext cx="1600200" cy="45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ANCOVA-MANC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0" y="58212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Medidas Repetid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0" y="63547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Ejempl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0" y="36576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9900"/>
                  </a:solidFill>
                  <a:latin typeface="Franklin Gothic Medium Cond"/>
                </a:rPr>
                <a:t>introduc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0" y="3657600"/>
            <a:ext cx="1600200" cy="810000"/>
            <a:chOff x="0" y="3657600"/>
            <a:chExt cx="1600200" cy="810000"/>
          </a:xfrm>
        </p:grpSpPr>
        <p:sp>
          <p:nvSpPr>
            <p:cNvPr id="782" name=""/>
            <p:cNvSpPr/>
            <p:nvPr/>
          </p:nvSpPr>
          <p:spPr>
            <a:xfrm>
              <a:off x="0" y="41911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9900"/>
                  </a:solidFill>
                  <a:latin typeface="Franklin Gothic Medium Cond"/>
                </a:rPr>
                <a:t>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0" y="36576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introduc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4" name=""/>
          <p:cNvSpPr/>
          <p:nvPr/>
        </p:nvSpPr>
        <p:spPr>
          <a:xfrm>
            <a:off x="2286000" y="1981080"/>
            <a:ext cx="6858000" cy="685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Franklin Gothic Medium Cond"/>
              </a:rPr>
              <a:t>Diagrama de cajas y patil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286000" y="2819520"/>
            <a:ext cx="6858000" cy="685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Franklin Gothic Medium Cond"/>
              </a:rPr>
              <a:t>Contrastes específ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286000" y="3505320"/>
            <a:ext cx="6858000" cy="1447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Franklin Gothic Medium Cond"/>
              </a:rPr>
              <a:t>Test HSD de Tu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Franklin Gothic Medium Cond"/>
              </a:rPr>
              <a:t>Test de Scheff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Franklin Gothic Medium Cond"/>
              </a:rPr>
              <a:t>Test de Bonferr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692640" y="223920"/>
            <a:ext cx="720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Franklin Gothic Medium Cond"/>
              </a:rPr>
              <a:t>ANOVA: Análisis Univariable de la Varianza: </a:t>
            </a:r>
            <a:r>
              <a:rPr b="0" lang="en-US" sz="1800" spc="-1" strike="noStrike">
                <a:solidFill>
                  <a:srgbClr val="ff9900"/>
                </a:solidFill>
                <a:latin typeface="Franklin Gothic Medium Cond"/>
              </a:rPr>
              <a:t>ANOVA con k fact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1600200" y="762120"/>
            <a:ext cx="7543800" cy="6095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439920" y="223920"/>
            <a:ext cx="93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Franklin Gothic Medium Cond"/>
              </a:rPr>
              <a:t>ANOVA: Análisis Univariable de la Varianza: </a:t>
            </a:r>
            <a:r>
              <a:rPr b="0" lang="en-US" sz="1800" spc="-1" strike="noStrike">
                <a:solidFill>
                  <a:srgbClr val="ff9900"/>
                </a:solidFill>
                <a:latin typeface="Franklin Gothic Medium Cond"/>
              </a:rPr>
              <a:t>ANOVA para diseño por bloques compl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2286000" y="1143000"/>
            <a:ext cx="6858000" cy="685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Mod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3" name=""/>
          <p:cNvGrpSpPr/>
          <p:nvPr/>
        </p:nvGrpSpPr>
        <p:grpSpPr>
          <a:xfrm>
            <a:off x="0" y="3657600"/>
            <a:ext cx="1600200" cy="2973600"/>
            <a:chOff x="0" y="3657600"/>
            <a:chExt cx="1600200" cy="2973600"/>
          </a:xfrm>
        </p:grpSpPr>
        <p:sp>
          <p:nvSpPr>
            <p:cNvPr id="794" name=""/>
            <p:cNvSpPr/>
            <p:nvPr/>
          </p:nvSpPr>
          <p:spPr>
            <a:xfrm>
              <a:off x="0" y="41911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0" y="47545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M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0" y="5288040"/>
              <a:ext cx="1600200" cy="45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ANCOVA-MANC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0" y="58212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Medidas Repetid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0" y="63547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Ejempl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0" y="36576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9900"/>
                  </a:solidFill>
                  <a:latin typeface="Franklin Gothic Medium Cond"/>
                </a:rPr>
                <a:t>introduc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0" name=""/>
          <p:cNvGrpSpPr/>
          <p:nvPr/>
        </p:nvGrpSpPr>
        <p:grpSpPr>
          <a:xfrm>
            <a:off x="0" y="3657600"/>
            <a:ext cx="1600200" cy="810000"/>
            <a:chOff x="0" y="3657600"/>
            <a:chExt cx="1600200" cy="810000"/>
          </a:xfrm>
        </p:grpSpPr>
        <p:sp>
          <p:nvSpPr>
            <p:cNvPr id="801" name=""/>
            <p:cNvSpPr/>
            <p:nvPr/>
          </p:nvSpPr>
          <p:spPr>
            <a:xfrm>
              <a:off x="0" y="41911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9900"/>
                  </a:solidFill>
                  <a:latin typeface="Franklin Gothic Medium Cond"/>
                </a:rPr>
                <a:t>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0" y="36576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introduc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3" name=""/>
          <p:cNvSpPr/>
          <p:nvPr/>
        </p:nvSpPr>
        <p:spPr>
          <a:xfrm>
            <a:off x="2286000" y="1981080"/>
            <a:ext cx="685800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Mod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4" name=""/>
              <p:cNvSpPr txBox="1"/>
              <p:nvPr/>
            </p:nvSpPr>
            <p:spPr>
              <a:xfrm>
                <a:off x="3787920" y="2184480"/>
                <a:ext cx="385272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05" name=""/>
          <p:cNvSpPr/>
          <p:nvPr/>
        </p:nvSpPr>
        <p:spPr>
          <a:xfrm>
            <a:off x="2286000" y="3200400"/>
            <a:ext cx="68580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Medium Cond"/>
              </a:rPr>
              <a:t>Respecto al factor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6" name=""/>
              <p:cNvSpPr txBox="1"/>
              <p:nvPr/>
            </p:nvSpPr>
            <p:spPr>
              <a:xfrm>
                <a:off x="4952880" y="3352680"/>
                <a:ext cx="32004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: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: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  para algún valor de k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07" name=""/>
          <p:cNvSpPr/>
          <p:nvPr/>
        </p:nvSpPr>
        <p:spPr>
          <a:xfrm>
            <a:off x="2286000" y="4419720"/>
            <a:ext cx="68580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Medium Cond"/>
              </a:rPr>
              <a:t>Respecto al factor de blo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8" name=""/>
              <p:cNvSpPr txBox="1"/>
              <p:nvPr/>
            </p:nvSpPr>
            <p:spPr>
              <a:xfrm>
                <a:off x="5010120" y="4552920"/>
                <a:ext cx="3086280" cy="8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: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: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  para algún valor de 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1600200" y="762120"/>
            <a:ext cx="7543800" cy="6095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439920" y="223920"/>
            <a:ext cx="93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Franklin Gothic Medium Cond"/>
              </a:rPr>
              <a:t>ANOVA: Análisis Univariable de la Varianza: </a:t>
            </a:r>
            <a:r>
              <a:rPr b="0" lang="en-US" sz="1800" spc="-1" strike="noStrike">
                <a:solidFill>
                  <a:srgbClr val="ff9900"/>
                </a:solidFill>
                <a:latin typeface="Franklin Gothic Medium Cond"/>
              </a:rPr>
              <a:t>ANOVA para diseño por bloques compl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2286000" y="1143000"/>
            <a:ext cx="6858000" cy="685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Descomposición de la varia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0" y="3657600"/>
            <a:ext cx="1600200" cy="2973600"/>
            <a:chOff x="0" y="3657600"/>
            <a:chExt cx="1600200" cy="2973600"/>
          </a:xfrm>
        </p:grpSpPr>
        <p:sp>
          <p:nvSpPr>
            <p:cNvPr id="815" name=""/>
            <p:cNvSpPr/>
            <p:nvPr/>
          </p:nvSpPr>
          <p:spPr>
            <a:xfrm>
              <a:off x="0" y="41911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0" y="47545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M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0" y="5288040"/>
              <a:ext cx="1600200" cy="45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ANCOVA-MANC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0" y="58212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Medidas Repetid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0" y="63547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Ejempl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0" y="36576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9900"/>
                  </a:solidFill>
                  <a:latin typeface="Franklin Gothic Medium Cond"/>
                </a:rPr>
                <a:t>introduc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1" name=""/>
          <p:cNvGrpSpPr/>
          <p:nvPr/>
        </p:nvGrpSpPr>
        <p:grpSpPr>
          <a:xfrm>
            <a:off x="0" y="3657600"/>
            <a:ext cx="1600200" cy="810000"/>
            <a:chOff x="0" y="3657600"/>
            <a:chExt cx="1600200" cy="810000"/>
          </a:xfrm>
        </p:grpSpPr>
        <p:sp>
          <p:nvSpPr>
            <p:cNvPr id="822" name=""/>
            <p:cNvSpPr/>
            <p:nvPr/>
          </p:nvSpPr>
          <p:spPr>
            <a:xfrm>
              <a:off x="0" y="41911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9900"/>
                  </a:solidFill>
                  <a:latin typeface="Franklin Gothic Medium Cond"/>
                </a:rPr>
                <a:t>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0" y="36576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introduc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4" name=""/>
          <p:cNvGrpSpPr/>
          <p:nvPr/>
        </p:nvGrpSpPr>
        <p:grpSpPr>
          <a:xfrm>
            <a:off x="2286000" y="2057400"/>
            <a:ext cx="6629400" cy="2209680"/>
            <a:chOff x="2286000" y="2057400"/>
            <a:chExt cx="6629400" cy="2209680"/>
          </a:xfrm>
        </p:grpSpPr>
        <p:sp>
          <p:nvSpPr>
            <p:cNvPr id="825" name=""/>
            <p:cNvSpPr/>
            <p:nvPr/>
          </p:nvSpPr>
          <p:spPr>
            <a:xfrm>
              <a:off x="2286000" y="2057400"/>
              <a:ext cx="1143000" cy="106668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Franklin Gothic Medium Cond"/>
                </a:rPr>
                <a:t>S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6" name=""/>
            <p:cNvGrpSpPr/>
            <p:nvPr/>
          </p:nvGrpSpPr>
          <p:grpSpPr>
            <a:xfrm>
              <a:off x="3421800" y="2057400"/>
              <a:ext cx="5493600" cy="1066680"/>
              <a:chOff x="3421800" y="2057400"/>
              <a:chExt cx="5493600" cy="1066680"/>
            </a:xfrm>
          </p:grpSpPr>
          <p:sp>
            <p:nvSpPr>
              <p:cNvPr id="827" name=""/>
              <p:cNvSpPr/>
              <p:nvPr/>
            </p:nvSpPr>
            <p:spPr>
              <a:xfrm>
                <a:off x="7772400" y="2057400"/>
                <a:ext cx="1143000" cy="1066680"/>
              </a:xfrm>
              <a:prstGeom prst="rect">
                <a:avLst/>
              </a:prstGeom>
              <a:solidFill>
                <a:srgbClr val="ff99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Franklin Gothic Medium Cond"/>
                  </a:rPr>
                  <a:t>SC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3733920" y="2057400"/>
                <a:ext cx="3733560" cy="1066680"/>
              </a:xfrm>
              <a:prstGeom prst="rect">
                <a:avLst/>
              </a:prstGeom>
              <a:solidFill>
                <a:srgbClr val="ff99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Franklin Gothic Medium Cond"/>
                  </a:rPr>
                  <a:t>SC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7460280" y="23623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ff"/>
                    </a:solidFill>
                    <a:latin typeface="Franklin Gothic Medium Cond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3421800" y="23623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ff"/>
                    </a:solidFill>
                    <a:latin typeface="Franklin Gothic Medium Cond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1" name=""/>
            <p:cNvSpPr/>
            <p:nvPr/>
          </p:nvSpPr>
          <p:spPr>
            <a:xfrm>
              <a:off x="2286000" y="3200400"/>
              <a:ext cx="1143000" cy="106668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Franklin Gothic Medium Cond"/>
                </a:rPr>
                <a:t>Variabilid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Franklin Gothic Medium Cond"/>
                </a:rPr>
                <a:t>tot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772400" y="3200400"/>
              <a:ext cx="1143000" cy="106668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Franklin Gothic Medium Cond"/>
                </a:rPr>
                <a:t>Variabilid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Franklin Gothic Medium Cond"/>
                </a:rPr>
                <a:t>residu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733920" y="3200400"/>
              <a:ext cx="3733560" cy="106668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Franklin Gothic Medium Cond"/>
                </a:rPr>
                <a:t>Variabilidad explica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Franklin Gothic Medium Cond"/>
                </a:rPr>
                <a:t>por el model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460280" y="35053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Franklin Gothic Medium Cond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421800" y="35053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Franklin Gothic Medium Cond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6" name=""/>
          <p:cNvGrpSpPr/>
          <p:nvPr/>
        </p:nvGrpSpPr>
        <p:grpSpPr>
          <a:xfrm>
            <a:off x="2286000" y="4419720"/>
            <a:ext cx="6629400" cy="2209680"/>
            <a:chOff x="2286000" y="4419720"/>
            <a:chExt cx="6629400" cy="2209680"/>
          </a:xfrm>
        </p:grpSpPr>
        <p:sp>
          <p:nvSpPr>
            <p:cNvPr id="837" name=""/>
            <p:cNvSpPr/>
            <p:nvPr/>
          </p:nvSpPr>
          <p:spPr>
            <a:xfrm>
              <a:off x="2286000" y="4419720"/>
              <a:ext cx="1143000" cy="106668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Franklin Gothic Medium Cond"/>
                </a:rPr>
                <a:t>S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421800" y="4724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Franklin Gothic Medium Cond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9" name=""/>
            <p:cNvGrpSpPr/>
            <p:nvPr/>
          </p:nvGrpSpPr>
          <p:grpSpPr>
            <a:xfrm>
              <a:off x="3733920" y="4419720"/>
              <a:ext cx="5181480" cy="1066680"/>
              <a:chOff x="3733920" y="4419720"/>
              <a:chExt cx="5181480" cy="1066680"/>
            </a:xfrm>
          </p:grpSpPr>
          <p:sp>
            <p:nvSpPr>
              <p:cNvPr id="840" name=""/>
              <p:cNvSpPr/>
              <p:nvPr/>
            </p:nvSpPr>
            <p:spPr>
              <a:xfrm>
                <a:off x="7772400" y="4419720"/>
                <a:ext cx="1143000" cy="1066680"/>
              </a:xfrm>
              <a:prstGeom prst="rect">
                <a:avLst/>
              </a:prstGeom>
              <a:solidFill>
                <a:srgbClr val="ff99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Franklin Gothic Medium Cond"/>
                  </a:rPr>
                  <a:t>SC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7460280" y="47242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ff"/>
                    </a:solidFill>
                    <a:latin typeface="Franklin Gothic Medium Cond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3733920" y="4419720"/>
                <a:ext cx="1752480" cy="1066680"/>
              </a:xfrm>
              <a:prstGeom prst="rect">
                <a:avLst/>
              </a:prstGeom>
              <a:solidFill>
                <a:srgbClr val="ff99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Franklin Gothic Medium Cond"/>
                  </a:rPr>
                  <a:t>SCE</a:t>
                </a:r>
                <a:r>
                  <a:rPr b="0" lang="es-ES_tradnl" sz="2000" spc="-1" strike="noStrike" baseline="-25000">
                    <a:solidFill>
                      <a:srgbClr val="000000"/>
                    </a:solidFill>
                    <a:latin typeface="Franklin Gothic Medium Cond"/>
                  </a:rPr>
                  <a:t>Facto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5791320" y="4419720"/>
                <a:ext cx="1676160" cy="1066680"/>
              </a:xfrm>
              <a:prstGeom prst="rect">
                <a:avLst/>
              </a:prstGeom>
              <a:solidFill>
                <a:srgbClr val="ff99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Franklin Gothic Medium Cond"/>
                  </a:rPr>
                  <a:t>SCE</a:t>
                </a:r>
                <a:r>
                  <a:rPr b="0" lang="es-ES_tradnl" sz="2000" spc="-1" strike="noStrike" baseline="-25000">
                    <a:solidFill>
                      <a:srgbClr val="000000"/>
                    </a:solidFill>
                    <a:latin typeface="Franklin Gothic Medium Cond"/>
                  </a:rPr>
                  <a:t>Bloqu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5479200" y="47242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ff"/>
                    </a:solidFill>
                    <a:latin typeface="Franklin Gothic Medium Cond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5" name=""/>
            <p:cNvSpPr/>
            <p:nvPr/>
          </p:nvSpPr>
          <p:spPr>
            <a:xfrm>
              <a:off x="2286000" y="5562720"/>
              <a:ext cx="1143000" cy="106668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Franklin Gothic Medium Cond"/>
                </a:rPr>
                <a:t>Variabilid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Franklin Gothic Medium Cond"/>
                </a:rPr>
                <a:t>tot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421800" y="5867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Franklin Gothic Medium Cond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7" name=""/>
            <p:cNvGrpSpPr/>
            <p:nvPr/>
          </p:nvGrpSpPr>
          <p:grpSpPr>
            <a:xfrm>
              <a:off x="3733920" y="5562720"/>
              <a:ext cx="5181480" cy="1066680"/>
              <a:chOff x="3733920" y="5562720"/>
              <a:chExt cx="5181480" cy="1066680"/>
            </a:xfrm>
          </p:grpSpPr>
          <p:sp>
            <p:nvSpPr>
              <p:cNvPr id="848" name=""/>
              <p:cNvSpPr/>
              <p:nvPr/>
            </p:nvSpPr>
            <p:spPr>
              <a:xfrm>
                <a:off x="7772400" y="5562720"/>
                <a:ext cx="1143000" cy="1066680"/>
              </a:xfrm>
              <a:prstGeom prst="rect">
                <a:avLst/>
              </a:prstGeom>
              <a:solidFill>
                <a:srgbClr val="ff99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Franklin Gothic Medium Cond"/>
                  </a:rPr>
                  <a:t>Variabilida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Franklin Gothic Medium Cond"/>
                  </a:rPr>
                  <a:t>residua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7460280" y="58672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ff"/>
                    </a:solidFill>
                    <a:latin typeface="Franklin Gothic Medium Cond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733920" y="5562720"/>
                <a:ext cx="1752480" cy="1066680"/>
              </a:xfrm>
              <a:prstGeom prst="rect">
                <a:avLst/>
              </a:prstGeom>
              <a:solidFill>
                <a:srgbClr val="ff99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Franklin Gothic Medium Cond"/>
                  </a:rPr>
                  <a:t>Variabilida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Franklin Gothic Medium Cond"/>
                  </a:rPr>
                  <a:t>debida a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Franklin Gothic Medium Cond"/>
                  </a:rPr>
                  <a:t>Facto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5791320" y="5562720"/>
                <a:ext cx="1676160" cy="1066680"/>
              </a:xfrm>
              <a:prstGeom prst="rect">
                <a:avLst/>
              </a:prstGeom>
              <a:solidFill>
                <a:srgbClr val="ff99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Franklin Gothic Medium Cond"/>
                  </a:rPr>
                  <a:t>Variabilida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Franklin Gothic Medium Cond"/>
                  </a:rPr>
                  <a:t>debida a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Franklin Gothic Medium Cond"/>
                  </a:rPr>
                  <a:t>Bloqu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5479200" y="58672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ff"/>
                    </a:solidFill>
                    <a:latin typeface="Franklin Gothic Medium Cond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600200" y="762120"/>
            <a:ext cx="7543800" cy="6095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2286000" y="1143000"/>
            <a:ext cx="6858000" cy="685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Tabla res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7" name=""/>
          <p:cNvGrpSpPr/>
          <p:nvPr/>
        </p:nvGrpSpPr>
        <p:grpSpPr>
          <a:xfrm>
            <a:off x="0" y="3657600"/>
            <a:ext cx="1600200" cy="2973600"/>
            <a:chOff x="0" y="3657600"/>
            <a:chExt cx="1600200" cy="2973600"/>
          </a:xfrm>
        </p:grpSpPr>
        <p:sp>
          <p:nvSpPr>
            <p:cNvPr id="858" name=""/>
            <p:cNvSpPr/>
            <p:nvPr/>
          </p:nvSpPr>
          <p:spPr>
            <a:xfrm>
              <a:off x="0" y="41911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0" y="47545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M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0" y="5288040"/>
              <a:ext cx="1600200" cy="45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ANCOVA-MANC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0" y="58212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Medidas Repetid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0" y="63547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Ejempl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0" y="36576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9900"/>
                  </a:solidFill>
                  <a:latin typeface="Franklin Gothic Medium Cond"/>
                </a:rPr>
                <a:t>introduc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4" name=""/>
          <p:cNvGrpSpPr/>
          <p:nvPr/>
        </p:nvGrpSpPr>
        <p:grpSpPr>
          <a:xfrm>
            <a:off x="0" y="3657600"/>
            <a:ext cx="1600200" cy="810000"/>
            <a:chOff x="0" y="3657600"/>
            <a:chExt cx="1600200" cy="810000"/>
          </a:xfrm>
        </p:grpSpPr>
        <p:sp>
          <p:nvSpPr>
            <p:cNvPr id="865" name=""/>
            <p:cNvSpPr/>
            <p:nvPr/>
          </p:nvSpPr>
          <p:spPr>
            <a:xfrm>
              <a:off x="0" y="41911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9900"/>
                  </a:solidFill>
                  <a:latin typeface="Franklin Gothic Medium Cond"/>
                </a:rPr>
                <a:t>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0" y="36576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introduc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7" name=""/>
          <p:cNvGrpSpPr/>
          <p:nvPr/>
        </p:nvGrpSpPr>
        <p:grpSpPr>
          <a:xfrm>
            <a:off x="2286000" y="2433600"/>
            <a:ext cx="6705720" cy="685800"/>
            <a:chOff x="2286000" y="2433600"/>
            <a:chExt cx="6705720" cy="685800"/>
          </a:xfrm>
        </p:grpSpPr>
        <p:sp>
          <p:nvSpPr>
            <p:cNvPr id="868" name=""/>
            <p:cNvSpPr/>
            <p:nvPr/>
          </p:nvSpPr>
          <p:spPr>
            <a:xfrm>
              <a:off x="2286000" y="2433600"/>
              <a:ext cx="1219320" cy="6858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Franklin Gothic Medium Cond"/>
                </a:rPr>
                <a:t>Fuente 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Franklin Gothic Medium Cond"/>
                </a:rPr>
                <a:t>vari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581280" y="2433600"/>
              <a:ext cx="914400" cy="6858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Franklin Gothic Medium Cond"/>
                </a:rPr>
                <a:t>Suma C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572000" y="2433600"/>
              <a:ext cx="990720" cy="6858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Franklin Gothic Medium Cond"/>
                </a:rPr>
                <a:t>g.d.l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934320" y="2433600"/>
              <a:ext cx="2057400" cy="6858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Franklin Gothic Medium Cond"/>
                </a:rPr>
                <a:t>Estadísti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Franklin Gothic Medium Cond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638680" y="2433600"/>
              <a:ext cx="1219320" cy="6858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Franklin Gothic Medium Cond"/>
                </a:rPr>
                <a:t>Medi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Franklin Gothic Medium Cond"/>
                </a:rPr>
                <a:t>cuadrátic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3" name=""/>
          <p:cNvSpPr/>
          <p:nvPr/>
        </p:nvSpPr>
        <p:spPr>
          <a:xfrm>
            <a:off x="439920" y="223920"/>
            <a:ext cx="93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Franklin Gothic Medium Cond"/>
              </a:rPr>
              <a:t>ANOVA: Análisis Univariable de la Varianza: </a:t>
            </a:r>
            <a:r>
              <a:rPr b="0" lang="en-US" sz="1800" spc="-1" strike="noStrike">
                <a:solidFill>
                  <a:srgbClr val="ff9900"/>
                </a:solidFill>
                <a:latin typeface="Franklin Gothic Medium Cond"/>
              </a:rPr>
              <a:t>ANOVA para diseño por bloques compl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4" name=""/>
          <p:cNvGrpSpPr/>
          <p:nvPr/>
        </p:nvGrpSpPr>
        <p:grpSpPr>
          <a:xfrm>
            <a:off x="2286000" y="3195720"/>
            <a:ext cx="6705720" cy="685800"/>
            <a:chOff x="2286000" y="3195720"/>
            <a:chExt cx="6705720" cy="685800"/>
          </a:xfrm>
        </p:grpSpPr>
        <p:sp>
          <p:nvSpPr>
            <p:cNvPr id="875" name=""/>
            <p:cNvSpPr/>
            <p:nvPr/>
          </p:nvSpPr>
          <p:spPr>
            <a:xfrm>
              <a:off x="3581280" y="3195720"/>
              <a:ext cx="914400" cy="685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SCE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Franklin Gothic Medium Cond"/>
                </a:rPr>
                <a:t>Fac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572000" y="3195720"/>
              <a:ext cx="990720" cy="685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Franklin Gothic Medium Cond"/>
                </a:rPr>
                <a:t>p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638680" y="3195720"/>
              <a:ext cx="1219320" cy="685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78" name=""/>
                <p:cNvSpPr txBox="1"/>
                <p:nvPr/>
              </p:nvSpPr>
              <p:spPr>
                <a:xfrm>
                  <a:off x="5827680" y="3233880"/>
                  <a:ext cx="878040" cy="610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CE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factor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p-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879" name=""/>
            <p:cNvSpPr/>
            <p:nvPr/>
          </p:nvSpPr>
          <p:spPr>
            <a:xfrm>
              <a:off x="6934320" y="3195720"/>
              <a:ext cx="2057400" cy="685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80" name=""/>
                <p:cNvSpPr txBox="1"/>
                <p:nvPr/>
              </p:nvSpPr>
              <p:spPr>
                <a:xfrm>
                  <a:off x="7575480" y="3220920"/>
                  <a:ext cx="1311480" cy="63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CE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Factor</m:t>
                              </m:r>
                            </m:sub>
                          </m:sSub>
                          <m:r>
                            <m:t xml:space="preserve">/</m:t>
                          </m:r>
                          <m:r>
                            <m:t xml:space="preserve">p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SCR</m:t>
                          </m:r>
                          <m:r>
                            <m:t xml:space="preserve">/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pq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881" name=""/>
            <p:cNvSpPr/>
            <p:nvPr/>
          </p:nvSpPr>
          <p:spPr>
            <a:xfrm>
              <a:off x="2286000" y="3195720"/>
              <a:ext cx="1219320" cy="685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Franklin Gothic Medium Cond"/>
                </a:rPr>
                <a:t>Fac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2286000" y="3962520"/>
            <a:ext cx="6705720" cy="685800"/>
            <a:chOff x="2286000" y="3962520"/>
            <a:chExt cx="6705720" cy="685800"/>
          </a:xfrm>
        </p:grpSpPr>
        <p:sp>
          <p:nvSpPr>
            <p:cNvPr id="883" name=""/>
            <p:cNvSpPr/>
            <p:nvPr/>
          </p:nvSpPr>
          <p:spPr>
            <a:xfrm>
              <a:off x="3581280" y="3962520"/>
              <a:ext cx="914400" cy="685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SCE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Franklin Gothic Medium Cond"/>
                </a:rPr>
                <a:t>Bloq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572000" y="3962520"/>
              <a:ext cx="990720" cy="685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Franklin Gothic Medium Cond"/>
                </a:rPr>
                <a:t>q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638680" y="3962520"/>
              <a:ext cx="1219320" cy="685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86" name=""/>
                <p:cNvSpPr txBox="1"/>
                <p:nvPr/>
              </p:nvSpPr>
              <p:spPr>
                <a:xfrm>
                  <a:off x="5791320" y="3990960"/>
                  <a:ext cx="942840" cy="62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CE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loque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q-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887" name=""/>
            <p:cNvSpPr/>
            <p:nvPr/>
          </p:nvSpPr>
          <p:spPr>
            <a:xfrm>
              <a:off x="6934320" y="3962520"/>
              <a:ext cx="2057400" cy="685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88" name=""/>
                <p:cNvSpPr txBox="1"/>
                <p:nvPr/>
              </p:nvSpPr>
              <p:spPr>
                <a:xfrm>
                  <a:off x="7543800" y="3979800"/>
                  <a:ext cx="1376280" cy="65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CE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loque</m:t>
                              </m:r>
                            </m:sub>
                          </m:sSub>
                          <m:r>
                            <m:t xml:space="preserve">/</m:t>
                          </m:r>
                          <m:r>
                            <m:t xml:space="preserve">q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SCR</m:t>
                          </m:r>
                          <m:r>
                            <m:t xml:space="preserve">/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pq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889" name=""/>
            <p:cNvSpPr/>
            <p:nvPr/>
          </p:nvSpPr>
          <p:spPr>
            <a:xfrm>
              <a:off x="2286000" y="3962520"/>
              <a:ext cx="1219320" cy="685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Franklin Gothic Medium Cond"/>
                </a:rPr>
                <a:t>Bloq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0" name=""/>
          <p:cNvGrpSpPr/>
          <p:nvPr/>
        </p:nvGrpSpPr>
        <p:grpSpPr>
          <a:xfrm>
            <a:off x="2286000" y="4724280"/>
            <a:ext cx="6705720" cy="685800"/>
            <a:chOff x="2286000" y="4724280"/>
            <a:chExt cx="6705720" cy="685800"/>
          </a:xfrm>
        </p:grpSpPr>
        <p:sp>
          <p:nvSpPr>
            <p:cNvPr id="891" name=""/>
            <p:cNvSpPr/>
            <p:nvPr/>
          </p:nvSpPr>
          <p:spPr>
            <a:xfrm>
              <a:off x="3581280" y="4724280"/>
              <a:ext cx="914400" cy="685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Franklin Gothic Medium Cond"/>
                </a:rPr>
                <a:t>SC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572000" y="4724280"/>
              <a:ext cx="990720" cy="685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n-(pq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638680" y="4724280"/>
              <a:ext cx="1219320" cy="685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94" name=""/>
                <p:cNvSpPr txBox="1"/>
                <p:nvPr/>
              </p:nvSpPr>
              <p:spPr>
                <a:xfrm>
                  <a:off x="6138720" y="4799160"/>
                  <a:ext cx="679680" cy="610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SCR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n-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pq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895" name=""/>
            <p:cNvSpPr/>
            <p:nvPr/>
          </p:nvSpPr>
          <p:spPr>
            <a:xfrm>
              <a:off x="6934320" y="4724280"/>
              <a:ext cx="2057400" cy="685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286000" y="4724280"/>
              <a:ext cx="1219320" cy="685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Franklin Gothic Medium Cond"/>
                </a:rPr>
                <a:t>Residu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7" name=""/>
          <p:cNvGrpSpPr/>
          <p:nvPr/>
        </p:nvGrpSpPr>
        <p:grpSpPr>
          <a:xfrm>
            <a:off x="2286000" y="5486400"/>
            <a:ext cx="6705720" cy="685800"/>
            <a:chOff x="2286000" y="5486400"/>
            <a:chExt cx="6705720" cy="685800"/>
          </a:xfrm>
        </p:grpSpPr>
        <p:sp>
          <p:nvSpPr>
            <p:cNvPr id="898" name=""/>
            <p:cNvSpPr/>
            <p:nvPr/>
          </p:nvSpPr>
          <p:spPr>
            <a:xfrm>
              <a:off x="2286000" y="5486400"/>
              <a:ext cx="1219320" cy="685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Franklin Gothic Medium Cond"/>
                </a:rPr>
                <a:t>Tot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581280" y="5486400"/>
              <a:ext cx="914400" cy="685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Franklin Gothic Medium Cond"/>
                </a:rPr>
                <a:t>S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572000" y="5486400"/>
              <a:ext cx="990720" cy="685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Franklin Gothic Medium Cond"/>
                </a:rPr>
                <a:t>n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5638680" y="5486400"/>
              <a:ext cx="1219320" cy="685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02" name=""/>
                <p:cNvSpPr txBox="1"/>
                <p:nvPr/>
              </p:nvSpPr>
              <p:spPr>
                <a:xfrm>
                  <a:off x="6237360" y="5586480"/>
                  <a:ext cx="480960" cy="56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SCT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n-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903" name=""/>
            <p:cNvSpPr/>
            <p:nvPr/>
          </p:nvSpPr>
          <p:spPr>
            <a:xfrm>
              <a:off x="6934320" y="5486400"/>
              <a:ext cx="2057400" cy="685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600200" y="762120"/>
            <a:ext cx="7543800" cy="6095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19720" y="1752480"/>
            <a:ext cx="4724280" cy="312444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Medium Cond"/>
              </a:rPr>
              <a:t>1.</a:t>
            </a:r>
            <a:r>
              <a:rPr b="0" lang="en-US" sz="3600" spc="-1" strike="noStrike">
                <a:solidFill>
                  <a:srgbClr val="ff9900"/>
                </a:solidFill>
                <a:latin typeface="Franklin Gothic Medium Cond"/>
              </a:rPr>
              <a:t> introdu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53000" y="223920"/>
            <a:ext cx="415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Franklin Gothic Medium Cond"/>
              </a:rPr>
              <a:t>Investigación de Mercados 2. Tema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0" y="3657600"/>
            <a:ext cx="1600200" cy="2973600"/>
            <a:chOff x="0" y="3657600"/>
            <a:chExt cx="1600200" cy="2973600"/>
          </a:xfrm>
        </p:grpSpPr>
        <p:sp>
          <p:nvSpPr>
            <p:cNvPr id="82" name=""/>
            <p:cNvSpPr/>
            <p:nvPr/>
          </p:nvSpPr>
          <p:spPr>
            <a:xfrm>
              <a:off x="0" y="41911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47545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M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288040"/>
              <a:ext cx="1600200" cy="45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ANCOVA-MANC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8212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Medidas Repetid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63547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Ejempl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36576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introduc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0" y="3657600"/>
            <a:ext cx="1600200" cy="27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Franklin Gothic Medium Cond"/>
              </a:rPr>
              <a:t>int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1600200" y="762120"/>
            <a:ext cx="7543800" cy="6095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16880" y="223920"/>
            <a:ext cx="959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Franklin Gothic Medium Cond"/>
              </a:rPr>
              <a:t>ANOVA: Análisis Univariable de la Varianza: </a:t>
            </a:r>
            <a:r>
              <a:rPr b="0" lang="en-US" sz="1800" spc="-1" strike="noStrike">
                <a:solidFill>
                  <a:srgbClr val="ff9900"/>
                </a:solidFill>
                <a:latin typeface="Franklin Gothic Medium Cond"/>
              </a:rPr>
              <a:t>ANOVA para diseño por bloques incompl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2286000" y="1143000"/>
            <a:ext cx="6858000" cy="685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Modelo en cuadrado lati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9" name=""/>
          <p:cNvGrpSpPr/>
          <p:nvPr/>
        </p:nvGrpSpPr>
        <p:grpSpPr>
          <a:xfrm>
            <a:off x="0" y="3657600"/>
            <a:ext cx="1600200" cy="2973600"/>
            <a:chOff x="0" y="3657600"/>
            <a:chExt cx="1600200" cy="2973600"/>
          </a:xfrm>
        </p:grpSpPr>
        <p:sp>
          <p:nvSpPr>
            <p:cNvPr id="910" name=""/>
            <p:cNvSpPr/>
            <p:nvPr/>
          </p:nvSpPr>
          <p:spPr>
            <a:xfrm>
              <a:off x="0" y="41911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0" y="47545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M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0" y="5288040"/>
              <a:ext cx="1600200" cy="45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ANCOVA-MANC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0" y="58212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Medidas Repetid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0" y="63547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Ejempl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0" y="36576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9900"/>
                  </a:solidFill>
                  <a:latin typeface="Franklin Gothic Medium Cond"/>
                </a:rPr>
                <a:t>introduc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0" y="3657600"/>
            <a:ext cx="1600200" cy="810000"/>
            <a:chOff x="0" y="3657600"/>
            <a:chExt cx="1600200" cy="810000"/>
          </a:xfrm>
        </p:grpSpPr>
        <p:sp>
          <p:nvSpPr>
            <p:cNvPr id="917" name=""/>
            <p:cNvSpPr/>
            <p:nvPr/>
          </p:nvSpPr>
          <p:spPr>
            <a:xfrm>
              <a:off x="0" y="41911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9900"/>
                  </a:solidFill>
                  <a:latin typeface="Franklin Gothic Medium Cond"/>
                </a:rPr>
                <a:t>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0" y="36576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introduc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9" name=""/>
          <p:cNvGrpSpPr/>
          <p:nvPr/>
        </p:nvGrpSpPr>
        <p:grpSpPr>
          <a:xfrm>
            <a:off x="2286000" y="2133720"/>
            <a:ext cx="6324480" cy="4419360"/>
            <a:chOff x="2286000" y="2133720"/>
            <a:chExt cx="6324480" cy="4419360"/>
          </a:xfrm>
        </p:grpSpPr>
        <p:sp>
          <p:nvSpPr>
            <p:cNvPr id="920" name=""/>
            <p:cNvSpPr/>
            <p:nvPr/>
          </p:nvSpPr>
          <p:spPr>
            <a:xfrm>
              <a:off x="2286000" y="2133720"/>
              <a:ext cx="1143000" cy="137160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Franklin Gothic Medium Cond"/>
                </a:rPr>
                <a:t>Bloque 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581280" y="2133720"/>
              <a:ext cx="5029200" cy="6094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Franklin Gothic Medium Cond"/>
                </a:rPr>
                <a:t>Bloque 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581280" y="2895480"/>
              <a:ext cx="1143000" cy="60984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Franklin Gothic Medium Cond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876920" y="2895480"/>
              <a:ext cx="1143000" cy="60984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Franklin Gothic Medium Cond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6172200" y="2895480"/>
              <a:ext cx="1143000" cy="60984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Franklin Gothic Medium Cond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467480" y="2895480"/>
              <a:ext cx="1143000" cy="60984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Franklin Gothic Medium Cond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286000" y="3657600"/>
              <a:ext cx="1143000" cy="6094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Franklin Gothic Medium Cond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581280" y="3657600"/>
              <a:ext cx="1143000" cy="60948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Franklin Gothic Medium Cond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4876920" y="3657600"/>
              <a:ext cx="1143000" cy="60948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Franklin Gothic Medium Cond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172200" y="3657600"/>
              <a:ext cx="1143000" cy="60948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Franklin Gothic Medium Cond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467480" y="3657600"/>
              <a:ext cx="1143000" cy="60948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Franklin Gothic Medium Cond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286000" y="4419720"/>
              <a:ext cx="1143000" cy="6094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Franklin Gothic Medium Cond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581280" y="4419720"/>
              <a:ext cx="1143000" cy="60948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Franklin Gothic Medium Cond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876920" y="4419720"/>
              <a:ext cx="1143000" cy="60948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Franklin Gothic Medium Cond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172200" y="4419720"/>
              <a:ext cx="1143000" cy="60948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Franklin Gothic Medium Cond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467480" y="4419720"/>
              <a:ext cx="1143000" cy="60948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Franklin Gothic Medium Cond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286000" y="5181480"/>
              <a:ext cx="1143000" cy="60984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Franklin Gothic Medium Cond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3581280" y="5181480"/>
              <a:ext cx="1143000" cy="60984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Franklin Gothic Medium Cond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876920" y="5181480"/>
              <a:ext cx="1143000" cy="60984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Franklin Gothic Medium Cond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172200" y="5181480"/>
              <a:ext cx="1143000" cy="60984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Franklin Gothic Medium Cond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7467480" y="5181480"/>
              <a:ext cx="1143000" cy="60984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Franklin Gothic Medium Cond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286000" y="5943600"/>
              <a:ext cx="1143000" cy="6094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Franklin Gothic Medium Cond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3581280" y="5943600"/>
              <a:ext cx="1143000" cy="60948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Franklin Gothic Medium Cond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876920" y="5943600"/>
              <a:ext cx="1143000" cy="60948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Franklin Gothic Medium Cond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172200" y="5943600"/>
              <a:ext cx="1143000" cy="60948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Franklin Gothic Medium Cond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467480" y="5943600"/>
              <a:ext cx="1143000" cy="60948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Franklin Gothic Medium Cond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1600200" y="762120"/>
            <a:ext cx="7543800" cy="6095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416880" y="223920"/>
            <a:ext cx="959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Franklin Gothic Medium Cond"/>
              </a:rPr>
              <a:t>ANOVA: Análisis Univariable de la Varianza: </a:t>
            </a:r>
            <a:r>
              <a:rPr b="0" lang="en-US" sz="1800" spc="-1" strike="noStrike">
                <a:solidFill>
                  <a:srgbClr val="ff9900"/>
                </a:solidFill>
                <a:latin typeface="Franklin Gothic Medium Cond"/>
              </a:rPr>
              <a:t>ANOVA para diseño por bloques incompl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2286000" y="1143000"/>
            <a:ext cx="6858000" cy="685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Modelo en cuadrado lati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1" name=""/>
          <p:cNvGrpSpPr/>
          <p:nvPr/>
        </p:nvGrpSpPr>
        <p:grpSpPr>
          <a:xfrm>
            <a:off x="0" y="3657600"/>
            <a:ext cx="1600200" cy="2973600"/>
            <a:chOff x="0" y="3657600"/>
            <a:chExt cx="1600200" cy="2973600"/>
          </a:xfrm>
        </p:grpSpPr>
        <p:sp>
          <p:nvSpPr>
            <p:cNvPr id="952" name=""/>
            <p:cNvSpPr/>
            <p:nvPr/>
          </p:nvSpPr>
          <p:spPr>
            <a:xfrm>
              <a:off x="0" y="41911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0" y="47545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M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0" y="5288040"/>
              <a:ext cx="1600200" cy="45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ANCOVA-MANC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0" y="58212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Medidas Repetid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0" y="63547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Ejempl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0" y="36576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9900"/>
                  </a:solidFill>
                  <a:latin typeface="Franklin Gothic Medium Cond"/>
                </a:rPr>
                <a:t>introduc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"/>
          <p:cNvGrpSpPr/>
          <p:nvPr/>
        </p:nvGrpSpPr>
        <p:grpSpPr>
          <a:xfrm>
            <a:off x="0" y="3657600"/>
            <a:ext cx="1600200" cy="810000"/>
            <a:chOff x="0" y="3657600"/>
            <a:chExt cx="1600200" cy="810000"/>
          </a:xfrm>
        </p:grpSpPr>
        <p:sp>
          <p:nvSpPr>
            <p:cNvPr id="959" name=""/>
            <p:cNvSpPr/>
            <p:nvPr/>
          </p:nvSpPr>
          <p:spPr>
            <a:xfrm>
              <a:off x="0" y="41911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9900"/>
                  </a:solidFill>
                  <a:latin typeface="Franklin Gothic Medium Cond"/>
                </a:rPr>
                <a:t>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0" y="36576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introduc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1" name=""/>
          <p:cNvSpPr/>
          <p:nvPr/>
        </p:nvSpPr>
        <p:spPr>
          <a:xfrm>
            <a:off x="2286000" y="1981080"/>
            <a:ext cx="685800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Mod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2" name=""/>
              <p:cNvSpPr txBox="1"/>
              <p:nvPr/>
            </p:nvSpPr>
            <p:spPr>
              <a:xfrm>
                <a:off x="3352680" y="2184480"/>
                <a:ext cx="472464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j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j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63" name=""/>
          <p:cNvSpPr/>
          <p:nvPr/>
        </p:nvSpPr>
        <p:spPr>
          <a:xfrm>
            <a:off x="2286000" y="3200400"/>
            <a:ext cx="68580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Medium Cond"/>
              </a:rPr>
              <a:t>Respecto al factor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4" name=""/>
              <p:cNvSpPr txBox="1"/>
              <p:nvPr/>
            </p:nvSpPr>
            <p:spPr>
              <a:xfrm>
                <a:off x="4952880" y="3352680"/>
                <a:ext cx="32004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: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: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  para algún valor de k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65" name=""/>
          <p:cNvSpPr/>
          <p:nvPr/>
        </p:nvSpPr>
        <p:spPr>
          <a:xfrm>
            <a:off x="2286000" y="4419720"/>
            <a:ext cx="68580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Medium Cond"/>
              </a:rPr>
              <a:t>Respecto al factor de bloque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6" name=""/>
              <p:cNvSpPr txBox="1"/>
              <p:nvPr/>
            </p:nvSpPr>
            <p:spPr>
              <a:xfrm>
                <a:off x="5010120" y="4552920"/>
                <a:ext cx="3086280" cy="8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: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: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  para algún valor de 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67" name=""/>
          <p:cNvSpPr/>
          <p:nvPr/>
        </p:nvSpPr>
        <p:spPr>
          <a:xfrm>
            <a:off x="2286000" y="5638680"/>
            <a:ext cx="685800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Medium Cond"/>
              </a:rPr>
              <a:t>Respecto al factor de bloque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8" name=""/>
              <p:cNvSpPr txBox="1"/>
              <p:nvPr/>
            </p:nvSpPr>
            <p:spPr>
              <a:xfrm>
                <a:off x="5029200" y="5810400"/>
                <a:ext cx="304812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: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: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  para algún valor de 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600200" y="762120"/>
            <a:ext cx="7543800" cy="6095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419720" y="1752480"/>
            <a:ext cx="4724280" cy="312444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Medium Cond"/>
              </a:rPr>
              <a:t>3.</a:t>
            </a:r>
            <a:r>
              <a:rPr b="0" lang="en-US" sz="3600" spc="-1" strike="noStrike">
                <a:solidFill>
                  <a:srgbClr val="ff9900"/>
                </a:solidFill>
                <a:latin typeface="Franklin Gothic Medium Cond"/>
              </a:rPr>
              <a:t> MANOV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Franklin Gothic Medium Cond"/>
              </a:rPr>
              <a:t>Análisis multivari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Franklin Gothic Medium Cond"/>
              </a:rPr>
              <a:t>de la varianz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1053000" y="223920"/>
            <a:ext cx="415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Franklin Gothic Medium Cond"/>
              </a:rPr>
              <a:t>Investigación de Mercados 2. Tema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4" name=""/>
          <p:cNvGrpSpPr/>
          <p:nvPr/>
        </p:nvGrpSpPr>
        <p:grpSpPr>
          <a:xfrm>
            <a:off x="0" y="3657600"/>
            <a:ext cx="1600200" cy="2973600"/>
            <a:chOff x="0" y="3657600"/>
            <a:chExt cx="1600200" cy="2973600"/>
          </a:xfrm>
        </p:grpSpPr>
        <p:sp>
          <p:nvSpPr>
            <p:cNvPr id="975" name=""/>
            <p:cNvSpPr/>
            <p:nvPr/>
          </p:nvSpPr>
          <p:spPr>
            <a:xfrm>
              <a:off x="0" y="41911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0" y="47545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M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0" y="5288040"/>
              <a:ext cx="1600200" cy="45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ANCOVA-MANC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0" y="58212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Medidas Repetid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0" y="63547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Ejempl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0" y="36576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9900"/>
                  </a:solidFill>
                  <a:latin typeface="Franklin Gothic Medium Cond"/>
                </a:rPr>
                <a:t>introduc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1" name=""/>
          <p:cNvGrpSpPr/>
          <p:nvPr/>
        </p:nvGrpSpPr>
        <p:grpSpPr>
          <a:xfrm>
            <a:off x="0" y="3657600"/>
            <a:ext cx="1600200" cy="810000"/>
            <a:chOff x="0" y="3657600"/>
            <a:chExt cx="1600200" cy="810000"/>
          </a:xfrm>
        </p:grpSpPr>
        <p:sp>
          <p:nvSpPr>
            <p:cNvPr id="982" name=""/>
            <p:cNvSpPr/>
            <p:nvPr/>
          </p:nvSpPr>
          <p:spPr>
            <a:xfrm>
              <a:off x="0" y="41911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9900"/>
                  </a:solidFill>
                  <a:latin typeface="Franklin Gothic Medium Cond"/>
                </a:rPr>
                <a:t>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0" y="36576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introduc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4" name=""/>
          <p:cNvGrpSpPr/>
          <p:nvPr/>
        </p:nvGrpSpPr>
        <p:grpSpPr>
          <a:xfrm>
            <a:off x="0" y="4191120"/>
            <a:ext cx="1600200" cy="839880"/>
            <a:chOff x="0" y="4191120"/>
            <a:chExt cx="1600200" cy="839880"/>
          </a:xfrm>
        </p:grpSpPr>
        <p:sp>
          <p:nvSpPr>
            <p:cNvPr id="985" name=""/>
            <p:cNvSpPr/>
            <p:nvPr/>
          </p:nvSpPr>
          <p:spPr>
            <a:xfrm>
              <a:off x="0" y="41911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0" y="47545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9900"/>
                  </a:solidFill>
                  <a:latin typeface="Franklin Gothic Medium Cond"/>
                </a:rPr>
                <a:t>M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600200" y="762120"/>
            <a:ext cx="7543800" cy="6095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86520" y="223920"/>
            <a:ext cx="736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Franklin Gothic Medium Cond"/>
              </a:rPr>
              <a:t>ANOVA: Análisis Multivariable de la Varianza: </a:t>
            </a:r>
            <a:r>
              <a:rPr b="0" lang="en-US" sz="1800" spc="-1" strike="noStrike">
                <a:solidFill>
                  <a:srgbClr val="ff9900"/>
                </a:solidFill>
                <a:latin typeface="Franklin Gothic Medium Cond"/>
              </a:rPr>
              <a:t>MANOVA con 1 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2286000" y="1143000"/>
            <a:ext cx="6858000" cy="685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Mod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2" name=""/>
          <p:cNvGrpSpPr/>
          <p:nvPr/>
        </p:nvGrpSpPr>
        <p:grpSpPr>
          <a:xfrm>
            <a:off x="0" y="3657600"/>
            <a:ext cx="1600200" cy="2973600"/>
            <a:chOff x="0" y="3657600"/>
            <a:chExt cx="1600200" cy="2973600"/>
          </a:xfrm>
        </p:grpSpPr>
        <p:sp>
          <p:nvSpPr>
            <p:cNvPr id="993" name=""/>
            <p:cNvSpPr/>
            <p:nvPr/>
          </p:nvSpPr>
          <p:spPr>
            <a:xfrm>
              <a:off x="0" y="41911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0" y="47545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M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0" y="5288040"/>
              <a:ext cx="1600200" cy="45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ANCOVA-MANC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0" y="58212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Medidas Repetid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0" y="63547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Ejempl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0" y="36576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introduc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9" name=""/>
          <p:cNvSpPr/>
          <p:nvPr/>
        </p:nvSpPr>
        <p:spPr>
          <a:xfrm>
            <a:off x="2286000" y="2057400"/>
            <a:ext cx="6858000" cy="449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Mod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0" name=""/>
              <p:cNvSpPr txBox="1"/>
              <p:nvPr/>
            </p:nvSpPr>
            <p:spPr>
              <a:xfrm>
                <a:off x="3200400" y="2666880"/>
                <a:ext cx="5121360" cy="261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rk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μ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μ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μ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rk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ε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ε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ε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rk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001" name=""/>
          <p:cNvGrpSpPr/>
          <p:nvPr/>
        </p:nvGrpSpPr>
        <p:grpSpPr>
          <a:xfrm>
            <a:off x="0" y="4191120"/>
            <a:ext cx="1600200" cy="839880"/>
            <a:chOff x="0" y="4191120"/>
            <a:chExt cx="1600200" cy="839880"/>
          </a:xfrm>
        </p:grpSpPr>
        <p:sp>
          <p:nvSpPr>
            <p:cNvPr id="1002" name=""/>
            <p:cNvSpPr/>
            <p:nvPr/>
          </p:nvSpPr>
          <p:spPr>
            <a:xfrm>
              <a:off x="0" y="41911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0" y="47545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9900"/>
                  </a:solidFill>
                  <a:latin typeface="Franklin Gothic Medium Cond"/>
                </a:rPr>
                <a:t>M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4" name=""/>
          <p:cNvSpPr/>
          <p:nvPr/>
        </p:nvSpPr>
        <p:spPr>
          <a:xfrm>
            <a:off x="4830480" y="5767560"/>
            <a:ext cx="452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Franklin Gothic Medium Cond"/>
              </a:rPr>
              <a:t>1 factor con p niveles (1,2, ..., k, ..., 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Franklin Gothic Medium Cond"/>
              </a:rPr>
              <a:t>r variables dependientes (1,2, ..., 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1600200" y="762120"/>
            <a:ext cx="7543800" cy="6095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2286000" y="1143000"/>
            <a:ext cx="6858000" cy="685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Hipóte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9" name=""/>
          <p:cNvGrpSpPr/>
          <p:nvPr/>
        </p:nvGrpSpPr>
        <p:grpSpPr>
          <a:xfrm>
            <a:off x="0" y="3657600"/>
            <a:ext cx="1600200" cy="2973600"/>
            <a:chOff x="0" y="3657600"/>
            <a:chExt cx="1600200" cy="2973600"/>
          </a:xfrm>
        </p:grpSpPr>
        <p:sp>
          <p:nvSpPr>
            <p:cNvPr id="1010" name=""/>
            <p:cNvSpPr/>
            <p:nvPr/>
          </p:nvSpPr>
          <p:spPr>
            <a:xfrm>
              <a:off x="0" y="41911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0" y="47545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M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0" y="5288040"/>
              <a:ext cx="1600200" cy="45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ANCOVA-MANC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0" y="58212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Medidas Repetid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0" y="63547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Ejempl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0" y="36576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introduc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6" name=""/>
          <p:cNvSpPr/>
          <p:nvPr/>
        </p:nvSpPr>
        <p:spPr>
          <a:xfrm>
            <a:off x="2286000" y="2057400"/>
            <a:ext cx="6858000" cy="449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Mod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7" name=""/>
              <p:cNvSpPr txBox="1"/>
              <p:nvPr/>
            </p:nvSpPr>
            <p:spPr>
              <a:xfrm>
                <a:off x="2819520" y="2627280"/>
                <a:ext cx="5871960" cy="25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: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⋯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rk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⋯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  <m:r>
                                        <m:t xml:space="preserve">p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  <m:r>
                                        <m:t xml:space="preserve">p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  <m:r>
                                        <m:t xml:space="preserve">p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no todos los vectores de medias son iguale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18" name=""/>
          <p:cNvGrpSpPr/>
          <p:nvPr/>
        </p:nvGrpSpPr>
        <p:grpSpPr>
          <a:xfrm>
            <a:off x="0" y="4191120"/>
            <a:ext cx="1600200" cy="839880"/>
            <a:chOff x="0" y="4191120"/>
            <a:chExt cx="1600200" cy="839880"/>
          </a:xfrm>
        </p:grpSpPr>
        <p:sp>
          <p:nvSpPr>
            <p:cNvPr id="1019" name=""/>
            <p:cNvSpPr/>
            <p:nvPr/>
          </p:nvSpPr>
          <p:spPr>
            <a:xfrm>
              <a:off x="0" y="41911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0" y="47545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9900"/>
                  </a:solidFill>
                  <a:latin typeface="Franklin Gothic Medium Cond"/>
                </a:rPr>
                <a:t>M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1" name=""/>
          <p:cNvSpPr/>
          <p:nvPr/>
        </p:nvSpPr>
        <p:spPr>
          <a:xfrm>
            <a:off x="4830480" y="5767560"/>
            <a:ext cx="452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Franklin Gothic Medium Cond"/>
              </a:rPr>
              <a:t>1 factor con p niveles (1,2, ..., k, ..., 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Franklin Gothic Medium Cond"/>
              </a:rPr>
              <a:t>r variables dependientes (1,2, ..., 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686520" y="223920"/>
            <a:ext cx="736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Franklin Gothic Medium Cond"/>
              </a:rPr>
              <a:t>ANOVA: Análisis Multivariable de la Varianza: </a:t>
            </a:r>
            <a:r>
              <a:rPr b="0" lang="en-US" sz="1800" spc="-1" strike="noStrike">
                <a:solidFill>
                  <a:srgbClr val="ff9900"/>
                </a:solidFill>
                <a:latin typeface="Franklin Gothic Medium Cond"/>
              </a:rPr>
              <a:t>MANOVA con 1 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1600200" y="762120"/>
            <a:ext cx="7543800" cy="6095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2286000" y="1143000"/>
            <a:ext cx="6858000" cy="685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Supue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7" name=""/>
          <p:cNvGrpSpPr/>
          <p:nvPr/>
        </p:nvGrpSpPr>
        <p:grpSpPr>
          <a:xfrm>
            <a:off x="0" y="3657600"/>
            <a:ext cx="1600200" cy="2973600"/>
            <a:chOff x="0" y="3657600"/>
            <a:chExt cx="1600200" cy="2973600"/>
          </a:xfrm>
        </p:grpSpPr>
        <p:sp>
          <p:nvSpPr>
            <p:cNvPr id="1028" name=""/>
            <p:cNvSpPr/>
            <p:nvPr/>
          </p:nvSpPr>
          <p:spPr>
            <a:xfrm>
              <a:off x="0" y="41911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0" y="47545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M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0" y="5288040"/>
              <a:ext cx="1600200" cy="45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ANCOVA-MANC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0" y="58212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Medidas Repetid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0" y="63547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Ejempl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0" y="36576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introduc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4" name=""/>
          <p:cNvSpPr/>
          <p:nvPr/>
        </p:nvSpPr>
        <p:spPr>
          <a:xfrm>
            <a:off x="2286000" y="1981080"/>
            <a:ext cx="6858000" cy="1067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9900"/>
                </a:solidFill>
                <a:latin typeface="Franklin Gothic Medium Cond"/>
              </a:rPr>
              <a:t>Las variables dependientes siguen una distribución normal multivariante: </a:t>
            </a:r>
            <a:r>
              <a:rPr b="0" lang="es-ES_tradnl" sz="2000" spc="-1" strike="noStrike">
                <a:solidFill>
                  <a:srgbClr val="ffffff"/>
                </a:solidFill>
                <a:latin typeface="Franklin Gothic Medium Cond"/>
              </a:rPr>
              <a:t>Test de Mar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2286000" y="3200400"/>
            <a:ext cx="6858000" cy="1371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9900"/>
                </a:solidFill>
                <a:latin typeface="Franklin Gothic Medium Cond"/>
              </a:rPr>
              <a:t>Homocedasticida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9900"/>
                </a:solidFill>
                <a:latin typeface="Franklin Gothic Medium Cond"/>
              </a:rPr>
              <a:t>(Homogeneidad de matrices de varianzas-covarianza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Franklin Gothic Medium Cond"/>
              </a:rPr>
              <a:t>Test de Bo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2286000" y="4724280"/>
            <a:ext cx="6858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9900"/>
                </a:solidFill>
                <a:latin typeface="Franklin Gothic Medium Cond"/>
              </a:rPr>
              <a:t>Las submuestras son independientes y aleator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2286000" y="5638680"/>
            <a:ext cx="6858000" cy="99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9900"/>
                </a:solidFill>
                <a:latin typeface="Franklin Gothic Medium Cond"/>
              </a:rPr>
              <a:t>Las variables dependientes están relacionadas entre sí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Franklin Gothic Medium Cond"/>
              </a:rPr>
              <a:t>Test de esfericidad de Bartle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8" name=""/>
          <p:cNvGrpSpPr/>
          <p:nvPr/>
        </p:nvGrpSpPr>
        <p:grpSpPr>
          <a:xfrm>
            <a:off x="0" y="4191120"/>
            <a:ext cx="1600200" cy="839880"/>
            <a:chOff x="0" y="4191120"/>
            <a:chExt cx="1600200" cy="839880"/>
          </a:xfrm>
        </p:grpSpPr>
        <p:sp>
          <p:nvSpPr>
            <p:cNvPr id="1039" name=""/>
            <p:cNvSpPr/>
            <p:nvPr/>
          </p:nvSpPr>
          <p:spPr>
            <a:xfrm>
              <a:off x="0" y="41911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0" y="47545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9900"/>
                  </a:solidFill>
                  <a:latin typeface="Franklin Gothic Medium Cond"/>
                </a:rPr>
                <a:t>M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1" name=""/>
          <p:cNvSpPr/>
          <p:nvPr/>
        </p:nvSpPr>
        <p:spPr>
          <a:xfrm>
            <a:off x="686520" y="223920"/>
            <a:ext cx="736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Franklin Gothic Medium Cond"/>
              </a:rPr>
              <a:t>ANOVA: Análisis Multivariable de la Varianza: </a:t>
            </a:r>
            <a:r>
              <a:rPr b="0" lang="en-US" sz="1800" spc="-1" strike="noStrike">
                <a:solidFill>
                  <a:srgbClr val="ff9900"/>
                </a:solidFill>
                <a:latin typeface="Franklin Gothic Medium Cond"/>
              </a:rPr>
              <a:t>MANOVA con 1 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1600200" y="762120"/>
            <a:ext cx="7543800" cy="6095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2286000" y="1143000"/>
            <a:ext cx="6858000" cy="685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Descomposición de la varia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6" name=""/>
          <p:cNvGrpSpPr/>
          <p:nvPr/>
        </p:nvGrpSpPr>
        <p:grpSpPr>
          <a:xfrm>
            <a:off x="2286000" y="3733920"/>
            <a:ext cx="6629400" cy="685800"/>
            <a:chOff x="2286000" y="3733920"/>
            <a:chExt cx="6629400" cy="685800"/>
          </a:xfrm>
        </p:grpSpPr>
        <p:sp>
          <p:nvSpPr>
            <p:cNvPr id="1047" name=""/>
            <p:cNvSpPr/>
            <p:nvPr/>
          </p:nvSpPr>
          <p:spPr>
            <a:xfrm>
              <a:off x="2286000" y="3733920"/>
              <a:ext cx="1981080" cy="68580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Franklin Gothic Medium Cond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8" name=""/>
            <p:cNvGrpSpPr/>
            <p:nvPr/>
          </p:nvGrpSpPr>
          <p:grpSpPr>
            <a:xfrm>
              <a:off x="4258080" y="3733920"/>
              <a:ext cx="4657320" cy="685800"/>
              <a:chOff x="4258080" y="3733920"/>
              <a:chExt cx="4657320" cy="685800"/>
            </a:xfrm>
          </p:grpSpPr>
          <p:sp>
            <p:nvSpPr>
              <p:cNvPr id="1049" name=""/>
              <p:cNvSpPr/>
              <p:nvPr/>
            </p:nvSpPr>
            <p:spPr>
              <a:xfrm>
                <a:off x="6934320" y="3733920"/>
                <a:ext cx="1981080" cy="685800"/>
              </a:xfrm>
              <a:prstGeom prst="rect">
                <a:avLst/>
              </a:prstGeom>
              <a:solidFill>
                <a:srgbClr val="ff99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Franklin Gothic Medium Cond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4572000" y="3733920"/>
                <a:ext cx="2057400" cy="685800"/>
              </a:xfrm>
              <a:prstGeom prst="rect">
                <a:avLst/>
              </a:prstGeom>
              <a:solidFill>
                <a:srgbClr val="ff99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Franklin Gothic Medium Cond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6620400" y="379908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ffffff"/>
                    </a:solidFill>
                    <a:latin typeface="Franklin Gothic Medium Cond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4258080" y="379908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ffffff"/>
                    </a:solidFill>
                    <a:latin typeface="Franklin Gothic Medium Cond"/>
                  </a:rPr>
                  <a:t>=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53" name=""/>
          <p:cNvGrpSpPr/>
          <p:nvPr/>
        </p:nvGrpSpPr>
        <p:grpSpPr>
          <a:xfrm>
            <a:off x="2286000" y="2209680"/>
            <a:ext cx="6629400" cy="1219320"/>
            <a:chOff x="2286000" y="2209680"/>
            <a:chExt cx="6629400" cy="1219320"/>
          </a:xfrm>
        </p:grpSpPr>
        <p:sp>
          <p:nvSpPr>
            <p:cNvPr id="1054" name=""/>
            <p:cNvSpPr/>
            <p:nvPr/>
          </p:nvSpPr>
          <p:spPr>
            <a:xfrm>
              <a:off x="2286000" y="2209680"/>
              <a:ext cx="1981080" cy="121932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Franklin Gothic Medium Cond"/>
                </a:rPr>
                <a:t>Variabilida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Franklin Gothic Medium Cond"/>
                </a:rPr>
                <a:t>to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6934320" y="2209680"/>
              <a:ext cx="1981080" cy="121932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Franklin Gothic Medium Cond"/>
                </a:rPr>
                <a:t>Variabilida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Franklin Gothic Medium Cond"/>
                </a:rPr>
                <a:t>residu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Franklin Gothic Medium Cond"/>
                </a:rPr>
                <a:t>(intra-grupo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4572000" y="2209680"/>
              <a:ext cx="2057400" cy="121932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Franklin Gothic Medium Cond"/>
                </a:rPr>
                <a:t>Variabilidad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Franklin Gothic Medium Cond"/>
                </a:rPr>
                <a:t>explicada por el fac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Franklin Gothic Medium Cond"/>
                </a:rPr>
                <a:t>(entre-grupo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620400" y="25588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ffff"/>
                  </a:solidFill>
                  <a:latin typeface="Franklin Gothic Medium Cond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258080" y="25588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ffff"/>
                  </a:solidFill>
                  <a:latin typeface="Franklin Gothic Medium Cond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9" name=""/>
          <p:cNvSpPr/>
          <p:nvPr/>
        </p:nvSpPr>
        <p:spPr>
          <a:xfrm>
            <a:off x="686520" y="223920"/>
            <a:ext cx="736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Franklin Gothic Medium Cond"/>
              </a:rPr>
              <a:t>ANOVA: Análisis Multivariable de la Varianza: </a:t>
            </a:r>
            <a:r>
              <a:rPr b="0" lang="en-US" sz="1800" spc="-1" strike="noStrike">
                <a:solidFill>
                  <a:srgbClr val="ff9900"/>
                </a:solidFill>
                <a:latin typeface="Franklin Gothic Medium Cond"/>
              </a:rPr>
              <a:t>MANOVA con 1 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0" name=""/>
          <p:cNvGrpSpPr/>
          <p:nvPr/>
        </p:nvGrpSpPr>
        <p:grpSpPr>
          <a:xfrm>
            <a:off x="0" y="3657600"/>
            <a:ext cx="1600200" cy="2973600"/>
            <a:chOff x="0" y="3657600"/>
            <a:chExt cx="1600200" cy="2973600"/>
          </a:xfrm>
        </p:grpSpPr>
        <p:sp>
          <p:nvSpPr>
            <p:cNvPr id="1061" name=""/>
            <p:cNvSpPr/>
            <p:nvPr/>
          </p:nvSpPr>
          <p:spPr>
            <a:xfrm>
              <a:off x="0" y="41911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0" y="47545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M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0" y="5288040"/>
              <a:ext cx="1600200" cy="45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ANCOVA-MANC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0" y="58212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Medidas Repetid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0" y="63547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Ejempl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0" y="36576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introduc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7" name=""/>
          <p:cNvGrpSpPr/>
          <p:nvPr/>
        </p:nvGrpSpPr>
        <p:grpSpPr>
          <a:xfrm>
            <a:off x="0" y="4191120"/>
            <a:ext cx="1600200" cy="839880"/>
            <a:chOff x="0" y="4191120"/>
            <a:chExt cx="1600200" cy="839880"/>
          </a:xfrm>
        </p:grpSpPr>
        <p:sp>
          <p:nvSpPr>
            <p:cNvPr id="1068" name=""/>
            <p:cNvSpPr/>
            <p:nvPr/>
          </p:nvSpPr>
          <p:spPr>
            <a:xfrm>
              <a:off x="0" y="41911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0" y="47545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9900"/>
                  </a:solidFill>
                  <a:latin typeface="Franklin Gothic Medium Cond"/>
                </a:rPr>
                <a:t>M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0" name=""/>
          <p:cNvGrpSpPr/>
          <p:nvPr/>
        </p:nvGrpSpPr>
        <p:grpSpPr>
          <a:xfrm>
            <a:off x="2286000" y="4724280"/>
            <a:ext cx="6629400" cy="1371600"/>
            <a:chOff x="2286000" y="4724280"/>
            <a:chExt cx="6629400" cy="1371600"/>
          </a:xfrm>
        </p:grpSpPr>
        <p:sp>
          <p:nvSpPr>
            <p:cNvPr id="1071" name=""/>
            <p:cNvSpPr/>
            <p:nvPr/>
          </p:nvSpPr>
          <p:spPr>
            <a:xfrm>
              <a:off x="2286000" y="4724280"/>
              <a:ext cx="1981080" cy="137160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Franklin Gothic Medium Cond"/>
                </a:rPr>
                <a:t>Matriz de sumas de cuadrados y productos cruzados tota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6934320" y="4724280"/>
              <a:ext cx="1981080" cy="137160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Franklin Gothic Medium Cond"/>
                </a:rPr>
                <a:t>Matriz de sumas de cuadrados y productos cruzados intra-grupos (residuale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572000" y="4724280"/>
              <a:ext cx="2057400" cy="137160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Franklin Gothic Medium Cond"/>
                </a:rPr>
                <a:t>Matriz de sumas de cuadrados y productos cruzados inter-grup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6620400" y="51498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ffff"/>
                  </a:solidFill>
                  <a:latin typeface="Franklin Gothic Medium Cond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4258080" y="51498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ffff"/>
                  </a:solidFill>
                  <a:latin typeface="Franklin Gothic Medium Cond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1600200" y="762120"/>
            <a:ext cx="7543800" cy="6095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2286000" y="1143000"/>
            <a:ext cx="6858000" cy="685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Descomposición de la varia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686520" y="223920"/>
            <a:ext cx="736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Franklin Gothic Medium Cond"/>
              </a:rPr>
              <a:t>ANOVA: Análisis Multivariable de la Varianza: </a:t>
            </a:r>
            <a:r>
              <a:rPr b="0" lang="en-US" sz="1800" spc="-1" strike="noStrike">
                <a:solidFill>
                  <a:srgbClr val="ff9900"/>
                </a:solidFill>
                <a:latin typeface="Franklin Gothic Medium Cond"/>
              </a:rPr>
              <a:t>MANOVA con 1 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1" name=""/>
          <p:cNvGrpSpPr/>
          <p:nvPr/>
        </p:nvGrpSpPr>
        <p:grpSpPr>
          <a:xfrm>
            <a:off x="0" y="3657600"/>
            <a:ext cx="1600200" cy="2973600"/>
            <a:chOff x="0" y="3657600"/>
            <a:chExt cx="1600200" cy="2973600"/>
          </a:xfrm>
        </p:grpSpPr>
        <p:sp>
          <p:nvSpPr>
            <p:cNvPr id="1082" name=""/>
            <p:cNvSpPr/>
            <p:nvPr/>
          </p:nvSpPr>
          <p:spPr>
            <a:xfrm>
              <a:off x="0" y="41911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0" y="47545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M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0" y="5288040"/>
              <a:ext cx="1600200" cy="45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ANCOVA-MANC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0" y="58212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Medidas Repetid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0" y="63547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Ejempl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0" y="36576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introduc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8" name=""/>
          <p:cNvGrpSpPr/>
          <p:nvPr/>
        </p:nvGrpSpPr>
        <p:grpSpPr>
          <a:xfrm>
            <a:off x="0" y="4191120"/>
            <a:ext cx="1600200" cy="839880"/>
            <a:chOff x="0" y="4191120"/>
            <a:chExt cx="1600200" cy="839880"/>
          </a:xfrm>
        </p:grpSpPr>
        <p:sp>
          <p:nvSpPr>
            <p:cNvPr id="1089" name=""/>
            <p:cNvSpPr/>
            <p:nvPr/>
          </p:nvSpPr>
          <p:spPr>
            <a:xfrm>
              <a:off x="0" y="41911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0" y="47545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9900"/>
                  </a:solidFill>
                  <a:latin typeface="Franklin Gothic Medium Cond"/>
                </a:rPr>
                <a:t>M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1" name=""/>
          <p:cNvGrpSpPr/>
          <p:nvPr/>
        </p:nvGrpSpPr>
        <p:grpSpPr>
          <a:xfrm>
            <a:off x="4419720" y="2057400"/>
            <a:ext cx="4724280" cy="990720"/>
            <a:chOff x="4419720" y="2057400"/>
            <a:chExt cx="4724280" cy="990720"/>
          </a:xfrm>
        </p:grpSpPr>
        <p:sp>
          <p:nvSpPr>
            <p:cNvPr id="1092" name=""/>
            <p:cNvSpPr/>
            <p:nvPr/>
          </p:nvSpPr>
          <p:spPr>
            <a:xfrm>
              <a:off x="4419720" y="2057400"/>
              <a:ext cx="4724280" cy="9907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93" name=""/>
                <p:cNvSpPr txBox="1"/>
                <p:nvPr/>
              </p:nvSpPr>
              <p:spPr>
                <a:xfrm>
                  <a:off x="4800600" y="2143080"/>
                  <a:ext cx="1600200" cy="82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h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r</m:t>
                          </m:r>
                        </m:sup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h</m:t>
                                  </m:r>
                                </m:sub>
                              </m:sSub>
                            </m:den>
                          </m:f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94" name=""/>
          <p:cNvGrpSpPr/>
          <p:nvPr/>
        </p:nvGrpSpPr>
        <p:grpSpPr>
          <a:xfrm>
            <a:off x="4419720" y="3200400"/>
            <a:ext cx="4724280" cy="990720"/>
            <a:chOff x="4419720" y="3200400"/>
            <a:chExt cx="4724280" cy="990720"/>
          </a:xfrm>
        </p:grpSpPr>
        <p:sp>
          <p:nvSpPr>
            <p:cNvPr id="1095" name=""/>
            <p:cNvSpPr/>
            <p:nvPr/>
          </p:nvSpPr>
          <p:spPr>
            <a:xfrm>
              <a:off x="4419720" y="3200400"/>
              <a:ext cx="4724280" cy="9907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96" name=""/>
                <p:cNvSpPr txBox="1"/>
                <p:nvPr/>
              </p:nvSpPr>
              <p:spPr>
                <a:xfrm>
                  <a:off x="4800600" y="3255840"/>
                  <a:ext cx="2236680" cy="88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Λ</m:t>
                      </m:r>
                      <m:r>
                        <m:t xml:space="preserve">=</m:t>
                      </m:r>
                      <m:limLow>
                        <m:e>
                          <m:limUpp>
                            <m:e>
                              <m:r>
                                <m:t xml:space="preserve">Π</m:t>
                              </m:r>
                            </m:e>
                            <m:lim>
                              <m:r>
                                <m:t xml:space="preserve">r</m:t>
                              </m:r>
                            </m:lim>
                          </m:limUpp>
                        </m:e>
                        <m:lim>
                          <m:r>
                            <m:t xml:space="preserve">h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lim>
                      </m:limLow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λ</m:t>
                              </m:r>
                            </m:e>
                            <m:sub>
                              <m:r>
                                <m:t xml:space="preserve">h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d>
                            <m:dPr>
                              <m:begChr m:val="|"/>
                              <m:endChr m:val="|"/>
                            </m:dPr>
                            <m:e>
                              <m:r>
                                <m:t xml:space="preserve">E</m:t>
                              </m:r>
                            </m:e>
                          </m:d>
                        </m:num>
                        <m:den>
                          <m:d>
                            <m:dPr>
                              <m:begChr m:val="|"/>
                              <m:endChr m:val="|"/>
                            </m:dPr>
                            <m:e>
                              <m:r>
                                <m:t xml:space="preserve">T</m:t>
                              </m:r>
                            </m:e>
                          </m: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97" name=""/>
          <p:cNvGrpSpPr/>
          <p:nvPr/>
        </p:nvGrpSpPr>
        <p:grpSpPr>
          <a:xfrm>
            <a:off x="4419720" y="4343400"/>
            <a:ext cx="4724280" cy="990720"/>
            <a:chOff x="4419720" y="4343400"/>
            <a:chExt cx="4724280" cy="990720"/>
          </a:xfrm>
        </p:grpSpPr>
        <p:sp>
          <p:nvSpPr>
            <p:cNvPr id="1098" name=""/>
            <p:cNvSpPr/>
            <p:nvPr/>
          </p:nvSpPr>
          <p:spPr>
            <a:xfrm>
              <a:off x="4419720" y="4343400"/>
              <a:ext cx="4724280" cy="9907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99" name=""/>
                <p:cNvSpPr txBox="1"/>
                <p:nvPr/>
              </p:nvSpPr>
              <p:spPr>
                <a:xfrm>
                  <a:off x="4800600" y="4438800"/>
                  <a:ext cx="1149480" cy="799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h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r</m:t>
                          </m:r>
                        </m:sup>
                        <m:e>
                          <m:sSub>
                            <m:e>
                              <m:r>
                                <m:t xml:space="preserve">λ</m:t>
                              </m:r>
                            </m:e>
                            <m:sub>
                              <m:r>
                                <m:t xml:space="preserve">h</m:t>
                              </m:r>
                            </m:sub>
                          </m:sSub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00" name=""/>
          <p:cNvGrpSpPr/>
          <p:nvPr/>
        </p:nvGrpSpPr>
        <p:grpSpPr>
          <a:xfrm>
            <a:off x="2286000" y="2057400"/>
            <a:ext cx="1981080" cy="4419720"/>
            <a:chOff x="2286000" y="2057400"/>
            <a:chExt cx="1981080" cy="4419720"/>
          </a:xfrm>
        </p:grpSpPr>
        <p:sp>
          <p:nvSpPr>
            <p:cNvPr id="1101" name=""/>
            <p:cNvSpPr/>
            <p:nvPr/>
          </p:nvSpPr>
          <p:spPr>
            <a:xfrm>
              <a:off x="2286000" y="2057400"/>
              <a:ext cx="1981080" cy="9907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Franklin Gothic Medium Cond"/>
                </a:rPr>
                <a:t>Traza Pilla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286000" y="3200400"/>
              <a:ext cx="1981080" cy="9907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Franklin Gothic Medium Cond"/>
                </a:rPr>
                <a:t>Lambda de Wil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286000" y="4343400"/>
              <a:ext cx="1981080" cy="9907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Franklin Gothic Medium Cond"/>
                </a:rPr>
                <a:t>Traza de Hotell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286000" y="5486400"/>
              <a:ext cx="1981080" cy="9907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Franklin Gothic Medium Cond"/>
                </a:rPr>
                <a:t>Raiz mayor de Ro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5" name=""/>
          <p:cNvGrpSpPr/>
          <p:nvPr/>
        </p:nvGrpSpPr>
        <p:grpSpPr>
          <a:xfrm>
            <a:off x="4419720" y="5486400"/>
            <a:ext cx="4724280" cy="990720"/>
            <a:chOff x="4419720" y="5486400"/>
            <a:chExt cx="4724280" cy="990720"/>
          </a:xfrm>
        </p:grpSpPr>
        <p:sp>
          <p:nvSpPr>
            <p:cNvPr id="1106" name=""/>
            <p:cNvSpPr/>
            <p:nvPr/>
          </p:nvSpPr>
          <p:spPr>
            <a:xfrm>
              <a:off x="4419720" y="5486400"/>
              <a:ext cx="4724280" cy="9907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07" name=""/>
                <p:cNvSpPr txBox="1"/>
                <p:nvPr/>
              </p:nvSpPr>
              <p:spPr>
                <a:xfrm>
                  <a:off x="4800600" y="5581800"/>
                  <a:ext cx="1539720" cy="799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λ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max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1600200" y="762120"/>
            <a:ext cx="7543800" cy="6095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4419720" y="1752480"/>
            <a:ext cx="4724280" cy="312444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Franklin Gothic Medium Cond"/>
              </a:rPr>
              <a:t>4.</a:t>
            </a:r>
            <a:r>
              <a:rPr b="0" lang="es-ES_tradnl" sz="3600" spc="-1" strike="noStrike">
                <a:solidFill>
                  <a:srgbClr val="ff9900"/>
                </a:solidFill>
                <a:latin typeface="Franklin Gothic Medium Cond"/>
              </a:rPr>
              <a:t> ANCOVA-MANCOV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9900"/>
                </a:solidFill>
                <a:latin typeface="Franklin Gothic Medium Cond"/>
              </a:rPr>
              <a:t>Análisis de covarianz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1053000" y="223920"/>
            <a:ext cx="415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Franklin Gothic Medium Cond"/>
              </a:rPr>
              <a:t>Investigación de Mercados 2. Tema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3" name=""/>
          <p:cNvGrpSpPr/>
          <p:nvPr/>
        </p:nvGrpSpPr>
        <p:grpSpPr>
          <a:xfrm>
            <a:off x="0" y="3657600"/>
            <a:ext cx="1600200" cy="2973600"/>
            <a:chOff x="0" y="3657600"/>
            <a:chExt cx="1600200" cy="2973600"/>
          </a:xfrm>
        </p:grpSpPr>
        <p:sp>
          <p:nvSpPr>
            <p:cNvPr id="1114" name=""/>
            <p:cNvSpPr/>
            <p:nvPr/>
          </p:nvSpPr>
          <p:spPr>
            <a:xfrm>
              <a:off x="0" y="41911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0" y="47545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M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0" y="5288040"/>
              <a:ext cx="1600200" cy="45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ANCOVA-MANC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0" y="58212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Medidas Repetid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0" y="63547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Ejempl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0" y="36576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9900"/>
                  </a:solidFill>
                  <a:latin typeface="Franklin Gothic Medium Cond"/>
                </a:rPr>
                <a:t>introduc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0" name=""/>
          <p:cNvGrpSpPr/>
          <p:nvPr/>
        </p:nvGrpSpPr>
        <p:grpSpPr>
          <a:xfrm>
            <a:off x="0" y="3657600"/>
            <a:ext cx="1600200" cy="810000"/>
            <a:chOff x="0" y="3657600"/>
            <a:chExt cx="1600200" cy="810000"/>
          </a:xfrm>
        </p:grpSpPr>
        <p:sp>
          <p:nvSpPr>
            <p:cNvPr id="1121" name=""/>
            <p:cNvSpPr/>
            <p:nvPr/>
          </p:nvSpPr>
          <p:spPr>
            <a:xfrm>
              <a:off x="0" y="41911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9900"/>
                  </a:solidFill>
                  <a:latin typeface="Franklin Gothic Medium Cond"/>
                </a:rPr>
                <a:t>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0" y="36576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introduc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3" name=""/>
          <p:cNvGrpSpPr/>
          <p:nvPr/>
        </p:nvGrpSpPr>
        <p:grpSpPr>
          <a:xfrm>
            <a:off x="0" y="4191120"/>
            <a:ext cx="1600200" cy="839880"/>
            <a:chOff x="0" y="4191120"/>
            <a:chExt cx="1600200" cy="839880"/>
          </a:xfrm>
        </p:grpSpPr>
        <p:sp>
          <p:nvSpPr>
            <p:cNvPr id="1124" name=""/>
            <p:cNvSpPr/>
            <p:nvPr/>
          </p:nvSpPr>
          <p:spPr>
            <a:xfrm>
              <a:off x="0" y="41911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0" y="47545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9900"/>
                  </a:solidFill>
                  <a:latin typeface="Franklin Gothic Medium Cond"/>
                </a:rPr>
                <a:t>M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6" name=""/>
          <p:cNvGrpSpPr/>
          <p:nvPr/>
        </p:nvGrpSpPr>
        <p:grpSpPr>
          <a:xfrm>
            <a:off x="0" y="4754520"/>
            <a:ext cx="1600200" cy="992520"/>
            <a:chOff x="0" y="4754520"/>
            <a:chExt cx="1600200" cy="992520"/>
          </a:xfrm>
        </p:grpSpPr>
        <p:sp>
          <p:nvSpPr>
            <p:cNvPr id="1127" name=""/>
            <p:cNvSpPr/>
            <p:nvPr/>
          </p:nvSpPr>
          <p:spPr>
            <a:xfrm>
              <a:off x="0" y="47545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M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0" y="5288040"/>
              <a:ext cx="1600200" cy="45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9900"/>
                  </a:solidFill>
                  <a:latin typeface="Franklin Gothic Medium Cond"/>
                </a:rPr>
                <a:t>ANCOVA-MANC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1600200" y="762120"/>
            <a:ext cx="7543800" cy="6095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1248840" y="223920"/>
            <a:ext cx="23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Franklin Gothic Medium Cond"/>
              </a:rPr>
              <a:t>ANCOVA-MANCO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2286000" y="1143000"/>
            <a:ext cx="6858000" cy="685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Mod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2286000" y="1981080"/>
            <a:ext cx="685800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Mod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5" name=""/>
              <p:cNvSpPr txBox="1"/>
              <p:nvPr/>
            </p:nvSpPr>
            <p:spPr>
              <a:xfrm>
                <a:off x="2751120" y="2168640"/>
                <a:ext cx="593100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β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36" name=""/>
          <p:cNvSpPr/>
          <p:nvPr/>
        </p:nvSpPr>
        <p:spPr>
          <a:xfrm>
            <a:off x="2286000" y="3200400"/>
            <a:ext cx="68580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Medium Cond"/>
              </a:rPr>
              <a:t>Respecto al fa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7" name=""/>
              <p:cNvSpPr txBox="1"/>
              <p:nvPr/>
            </p:nvSpPr>
            <p:spPr>
              <a:xfrm>
                <a:off x="4952880" y="3352680"/>
                <a:ext cx="32004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: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: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  para algún valor de k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38" name=""/>
          <p:cNvSpPr/>
          <p:nvPr/>
        </p:nvSpPr>
        <p:spPr>
          <a:xfrm>
            <a:off x="2286000" y="4419720"/>
            <a:ext cx="68580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Franklin Gothic Medium Cond"/>
              </a:rPr>
              <a:t>Respecto a la co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9" name=""/>
              <p:cNvSpPr txBox="1"/>
              <p:nvPr/>
            </p:nvSpPr>
            <p:spPr>
              <a:xfrm>
                <a:off x="4952880" y="4572000"/>
                <a:ext cx="1143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β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β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140" name=""/>
          <p:cNvGrpSpPr/>
          <p:nvPr/>
        </p:nvGrpSpPr>
        <p:grpSpPr>
          <a:xfrm>
            <a:off x="0" y="3657600"/>
            <a:ext cx="1600200" cy="2973600"/>
            <a:chOff x="0" y="3657600"/>
            <a:chExt cx="1600200" cy="2973600"/>
          </a:xfrm>
        </p:grpSpPr>
        <p:sp>
          <p:nvSpPr>
            <p:cNvPr id="1141" name=""/>
            <p:cNvSpPr/>
            <p:nvPr/>
          </p:nvSpPr>
          <p:spPr>
            <a:xfrm>
              <a:off x="0" y="41911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0" y="47545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M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0" y="5288040"/>
              <a:ext cx="1600200" cy="45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ANCOVA-MANC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0" y="58212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Medidas Repetid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0" y="63547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Ejempl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0" y="36576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9900"/>
                  </a:solidFill>
                  <a:latin typeface="Franklin Gothic Medium Cond"/>
                </a:rPr>
                <a:t>introduc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7" name=""/>
          <p:cNvGrpSpPr/>
          <p:nvPr/>
        </p:nvGrpSpPr>
        <p:grpSpPr>
          <a:xfrm>
            <a:off x="0" y="3657600"/>
            <a:ext cx="1600200" cy="810000"/>
            <a:chOff x="0" y="3657600"/>
            <a:chExt cx="1600200" cy="810000"/>
          </a:xfrm>
        </p:grpSpPr>
        <p:sp>
          <p:nvSpPr>
            <p:cNvPr id="1148" name=""/>
            <p:cNvSpPr/>
            <p:nvPr/>
          </p:nvSpPr>
          <p:spPr>
            <a:xfrm>
              <a:off x="0" y="41911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9900"/>
                  </a:solidFill>
                  <a:latin typeface="Franklin Gothic Medium Cond"/>
                </a:rPr>
                <a:t>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0" y="36576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introduc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0" name=""/>
          <p:cNvGrpSpPr/>
          <p:nvPr/>
        </p:nvGrpSpPr>
        <p:grpSpPr>
          <a:xfrm>
            <a:off x="0" y="4191120"/>
            <a:ext cx="1600200" cy="839880"/>
            <a:chOff x="0" y="4191120"/>
            <a:chExt cx="1600200" cy="839880"/>
          </a:xfrm>
        </p:grpSpPr>
        <p:sp>
          <p:nvSpPr>
            <p:cNvPr id="1151" name=""/>
            <p:cNvSpPr/>
            <p:nvPr/>
          </p:nvSpPr>
          <p:spPr>
            <a:xfrm>
              <a:off x="0" y="41911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0" y="47545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9900"/>
                  </a:solidFill>
                  <a:latin typeface="Franklin Gothic Medium Cond"/>
                </a:rPr>
                <a:t>M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3" name=""/>
          <p:cNvGrpSpPr/>
          <p:nvPr/>
        </p:nvGrpSpPr>
        <p:grpSpPr>
          <a:xfrm>
            <a:off x="0" y="4754520"/>
            <a:ext cx="1600200" cy="992520"/>
            <a:chOff x="0" y="4754520"/>
            <a:chExt cx="1600200" cy="992520"/>
          </a:xfrm>
        </p:grpSpPr>
        <p:sp>
          <p:nvSpPr>
            <p:cNvPr id="1154" name=""/>
            <p:cNvSpPr/>
            <p:nvPr/>
          </p:nvSpPr>
          <p:spPr>
            <a:xfrm>
              <a:off x="0" y="47545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M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0" y="5288040"/>
              <a:ext cx="1600200" cy="45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9900"/>
                  </a:solidFill>
                  <a:latin typeface="Franklin Gothic Medium Cond"/>
                </a:rPr>
                <a:t>ANCOVA-MANC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00200" y="762120"/>
            <a:ext cx="7543800" cy="6095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6160" y="223920"/>
            <a:ext cx="604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Franklin Gothic Medium Cond"/>
              </a:rPr>
              <a:t>Introducción: ¿Para qué sirve el análisis de la varianz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0" y="1143000"/>
            <a:ext cx="6858000" cy="685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Ut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0" y="1981080"/>
            <a:ext cx="6858000" cy="99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Franklin Gothic Medium Cond"/>
              </a:rPr>
              <a:t>Investigación de Mercados y Experi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¿Qué es un experiment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0" y="3124080"/>
            <a:ext cx="6858000" cy="99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Franklin Gothic Medium Cond"/>
              </a:rPr>
              <a:t>Análisis de la varia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Herramienta de análisis de datos experiment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0" y="3657600"/>
            <a:ext cx="1600200" cy="2973600"/>
            <a:chOff x="0" y="3657600"/>
            <a:chExt cx="1600200" cy="2973600"/>
          </a:xfrm>
        </p:grpSpPr>
        <p:sp>
          <p:nvSpPr>
            <p:cNvPr id="97" name=""/>
            <p:cNvSpPr/>
            <p:nvPr/>
          </p:nvSpPr>
          <p:spPr>
            <a:xfrm>
              <a:off x="0" y="41911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47545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M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0" y="5288040"/>
              <a:ext cx="1600200" cy="45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ANCOVA-MANC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58212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Medidas Repetid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63547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Ejempl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0" y="36576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introduc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0" y="3657600"/>
            <a:ext cx="1600200" cy="27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Franklin Gothic Medium Cond"/>
              </a:rPr>
              <a:t>int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19520" y="4648320"/>
            <a:ext cx="1828800" cy="76176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 Cond"/>
              </a:rPr>
              <a:t>Var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 Cond"/>
              </a:rPr>
              <a:t>independient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19520" y="5562720"/>
            <a:ext cx="1828800" cy="76176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 Cond"/>
              </a:rPr>
              <a:t>Var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 Cond"/>
              </a:rPr>
              <a:t>independient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553080" y="4648320"/>
            <a:ext cx="1828800" cy="76176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 Cond"/>
              </a:rPr>
              <a:t>Var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 Cond"/>
              </a:rPr>
              <a:t>dependient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553080" y="5562720"/>
            <a:ext cx="1828800" cy="76176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 Cond"/>
              </a:rPr>
              <a:t>Var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 Cond"/>
              </a:rPr>
              <a:t>dependient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8" name=""/>
          <p:cNvCxnSpPr>
            <a:stCxn id="104" idx="3"/>
            <a:endCxn id="106" idx="1"/>
          </p:cNvCxnSpPr>
          <p:nvPr/>
        </p:nvCxnSpPr>
        <p:spPr>
          <a:xfrm>
            <a:off x="4662000" y="5028840"/>
            <a:ext cx="1877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sm"/>
          </a:ln>
        </p:spPr>
      </p:cxnSp>
      <p:cxnSp>
        <p:nvCxnSpPr>
          <p:cNvPr id="109" name=""/>
          <p:cNvCxnSpPr>
            <a:stCxn id="104" idx="3"/>
            <a:endCxn id="107" idx="1"/>
          </p:cNvCxnSpPr>
          <p:nvPr/>
        </p:nvCxnSpPr>
        <p:spPr>
          <a:xfrm>
            <a:off x="4662000" y="5029200"/>
            <a:ext cx="1877400" cy="9151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sm"/>
          </a:ln>
        </p:spPr>
      </p:cxnSp>
      <p:cxnSp>
        <p:nvCxnSpPr>
          <p:cNvPr id="110" name=""/>
          <p:cNvCxnSpPr>
            <a:stCxn id="105" idx="3"/>
            <a:endCxn id="106" idx="1"/>
          </p:cNvCxnSpPr>
          <p:nvPr/>
        </p:nvCxnSpPr>
        <p:spPr>
          <a:xfrm flipV="1">
            <a:off x="4662000" y="5028840"/>
            <a:ext cx="1877400" cy="9151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sm"/>
          </a:ln>
        </p:spPr>
      </p:cxnSp>
      <p:cxnSp>
        <p:nvCxnSpPr>
          <p:cNvPr id="111" name=""/>
          <p:cNvCxnSpPr>
            <a:stCxn id="105" idx="3"/>
            <a:endCxn id="107" idx="1"/>
          </p:cNvCxnSpPr>
          <p:nvPr/>
        </p:nvCxnSpPr>
        <p:spPr>
          <a:xfrm>
            <a:off x="4662000" y="5943240"/>
            <a:ext cx="1877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sm"/>
          </a:ln>
        </p:spPr>
      </p:cxnSp>
      <p:grpSp>
        <p:nvGrpSpPr>
          <p:cNvPr id="112" name=""/>
          <p:cNvGrpSpPr/>
          <p:nvPr/>
        </p:nvGrpSpPr>
        <p:grpSpPr>
          <a:xfrm>
            <a:off x="2590920" y="4419720"/>
            <a:ext cx="6019560" cy="2133360"/>
            <a:chOff x="2590920" y="4419720"/>
            <a:chExt cx="6019560" cy="2133360"/>
          </a:xfrm>
        </p:grpSpPr>
        <p:sp>
          <p:nvSpPr>
            <p:cNvPr id="113" name=""/>
            <p:cNvSpPr/>
            <p:nvPr/>
          </p:nvSpPr>
          <p:spPr>
            <a:xfrm>
              <a:off x="2590920" y="4419720"/>
              <a:ext cx="6019560" cy="2133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19520" y="4647960"/>
              <a:ext cx="1828800" cy="76176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Varia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independiente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819520" y="5562360"/>
              <a:ext cx="1828800" cy="76176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Varia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independiente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324480" y="4419720"/>
              <a:ext cx="2286000" cy="2133360"/>
            </a:xfrm>
            <a:prstGeom prst="rect">
              <a:avLst/>
            </a:prstGeom>
            <a:solidFill>
              <a:srgbClr val="ed711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553080" y="4647960"/>
              <a:ext cx="1828800" cy="76176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Varia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dependiente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553080" y="5562360"/>
              <a:ext cx="1828800" cy="76176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Varia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dependiente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19" name=""/>
          <p:cNvCxnSpPr>
            <a:stCxn id="114" idx="3"/>
            <a:endCxn id="116" idx="1"/>
          </p:cNvCxnSpPr>
          <p:nvPr/>
        </p:nvCxnSpPr>
        <p:spPr>
          <a:xfrm>
            <a:off x="4662360" y="5029200"/>
            <a:ext cx="1648800" cy="457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sm"/>
          </a:ln>
        </p:spPr>
      </p:cxnSp>
      <p:cxnSp>
        <p:nvCxnSpPr>
          <p:cNvPr id="120" name=""/>
          <p:cNvCxnSpPr>
            <a:stCxn id="115" idx="3"/>
            <a:endCxn id="116" idx="1"/>
          </p:cNvCxnSpPr>
          <p:nvPr/>
        </p:nvCxnSpPr>
        <p:spPr>
          <a:xfrm flipV="1">
            <a:off x="4662360" y="5486040"/>
            <a:ext cx="1648800" cy="457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sm"/>
          </a:ln>
        </p:spPr>
      </p:cxnSp>
      <p:grpSp>
        <p:nvGrpSpPr>
          <p:cNvPr id="121" name=""/>
          <p:cNvGrpSpPr/>
          <p:nvPr/>
        </p:nvGrpSpPr>
        <p:grpSpPr>
          <a:xfrm>
            <a:off x="2590920" y="4419720"/>
            <a:ext cx="6019560" cy="2133360"/>
            <a:chOff x="2590920" y="4419720"/>
            <a:chExt cx="6019560" cy="2133360"/>
          </a:xfrm>
        </p:grpSpPr>
        <p:sp>
          <p:nvSpPr>
            <p:cNvPr id="122" name=""/>
            <p:cNvSpPr/>
            <p:nvPr/>
          </p:nvSpPr>
          <p:spPr>
            <a:xfrm>
              <a:off x="2590920" y="4419720"/>
              <a:ext cx="6019560" cy="2133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24480" y="4419720"/>
              <a:ext cx="2286000" cy="2133360"/>
            </a:xfrm>
            <a:prstGeom prst="rect">
              <a:avLst/>
            </a:prstGeom>
            <a:solidFill>
              <a:srgbClr val="ed711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553080" y="4647960"/>
              <a:ext cx="1828800" cy="76176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Varia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dependiente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553080" y="5562360"/>
              <a:ext cx="1828800" cy="76176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Varia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dependiente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590920" y="4419720"/>
              <a:ext cx="2286000" cy="2133360"/>
            </a:xfrm>
            <a:prstGeom prst="rect">
              <a:avLst/>
            </a:prstGeom>
            <a:solidFill>
              <a:srgbClr val="ed711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4647960"/>
              <a:ext cx="1828800" cy="76176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Varia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independiente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19520" y="5562360"/>
              <a:ext cx="1828800" cy="76176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Varia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independiente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29" name=""/>
          <p:cNvCxnSpPr>
            <a:stCxn id="126" idx="3"/>
            <a:endCxn id="123" idx="1"/>
          </p:cNvCxnSpPr>
          <p:nvPr/>
        </p:nvCxnSpPr>
        <p:spPr>
          <a:xfrm>
            <a:off x="4890600" y="5486040"/>
            <a:ext cx="14202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sm"/>
          </a:ln>
        </p:spPr>
      </p:cxnSp>
      <p:sp>
        <p:nvSpPr>
          <p:cNvPr id="130" name=""/>
          <p:cNvSpPr/>
          <p:nvPr/>
        </p:nvSpPr>
        <p:spPr>
          <a:xfrm>
            <a:off x="2286000" y="1981080"/>
            <a:ext cx="6858000" cy="22100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Franklin Gothic Medium Cond"/>
              </a:rPr>
              <a:t>Análisis de dependenc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1600200" y="762120"/>
            <a:ext cx="7543800" cy="6095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1248840" y="223920"/>
            <a:ext cx="23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Franklin Gothic Medium Cond"/>
              </a:rPr>
              <a:t>ANCOVA-MANCO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2286000" y="1143000"/>
            <a:ext cx="6858000" cy="685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Supue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2286000" y="1981080"/>
            <a:ext cx="6858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Franklin Gothic Medium Cond"/>
              </a:rPr>
              <a:t>La variable dependiente sigue una distribución nor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2286000" y="2895480"/>
            <a:ext cx="6858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9900"/>
                </a:solidFill>
                <a:latin typeface="Franklin Gothic Medium Cond"/>
              </a:rPr>
              <a:t>Homocedasticidad (Homogeneidad de varianz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2286000" y="3809880"/>
            <a:ext cx="6858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9900"/>
                </a:solidFill>
                <a:latin typeface="Franklin Gothic Medium Cond"/>
              </a:rPr>
              <a:t>Las submuestras son independientes y aleator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2286000" y="4724280"/>
            <a:ext cx="6858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Franklin Gothic Medium Cond"/>
              </a:rPr>
              <a:t>Homogeneidad de coeficientes de regresión (pendient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2286000" y="5638680"/>
            <a:ext cx="6858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9900"/>
                </a:solidFill>
                <a:latin typeface="Franklin Gothic Medium Cond"/>
              </a:rPr>
              <a:t>La relación entre la covariable y la var. dependiente es lin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6" name=""/>
          <p:cNvGrpSpPr/>
          <p:nvPr/>
        </p:nvGrpSpPr>
        <p:grpSpPr>
          <a:xfrm>
            <a:off x="0" y="3657600"/>
            <a:ext cx="1600200" cy="2973600"/>
            <a:chOff x="0" y="3657600"/>
            <a:chExt cx="1600200" cy="2973600"/>
          </a:xfrm>
        </p:grpSpPr>
        <p:sp>
          <p:nvSpPr>
            <p:cNvPr id="1167" name=""/>
            <p:cNvSpPr/>
            <p:nvPr/>
          </p:nvSpPr>
          <p:spPr>
            <a:xfrm>
              <a:off x="0" y="41911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0" y="47545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M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0" y="5288040"/>
              <a:ext cx="1600200" cy="45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ANCOVA-MANC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0" y="58212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Medidas Repetid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0" y="63547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Ejempl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0" y="36576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9900"/>
                  </a:solidFill>
                  <a:latin typeface="Franklin Gothic Medium Cond"/>
                </a:rPr>
                <a:t>introduc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3" name=""/>
          <p:cNvGrpSpPr/>
          <p:nvPr/>
        </p:nvGrpSpPr>
        <p:grpSpPr>
          <a:xfrm>
            <a:off x="0" y="3657600"/>
            <a:ext cx="1600200" cy="810000"/>
            <a:chOff x="0" y="3657600"/>
            <a:chExt cx="1600200" cy="810000"/>
          </a:xfrm>
        </p:grpSpPr>
        <p:sp>
          <p:nvSpPr>
            <p:cNvPr id="1174" name=""/>
            <p:cNvSpPr/>
            <p:nvPr/>
          </p:nvSpPr>
          <p:spPr>
            <a:xfrm>
              <a:off x="0" y="41911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9900"/>
                  </a:solidFill>
                  <a:latin typeface="Franklin Gothic Medium Cond"/>
                </a:rPr>
                <a:t>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0" y="36576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introduc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6" name=""/>
          <p:cNvGrpSpPr/>
          <p:nvPr/>
        </p:nvGrpSpPr>
        <p:grpSpPr>
          <a:xfrm>
            <a:off x="0" y="4191120"/>
            <a:ext cx="1600200" cy="839880"/>
            <a:chOff x="0" y="4191120"/>
            <a:chExt cx="1600200" cy="839880"/>
          </a:xfrm>
        </p:grpSpPr>
        <p:sp>
          <p:nvSpPr>
            <p:cNvPr id="1177" name=""/>
            <p:cNvSpPr/>
            <p:nvPr/>
          </p:nvSpPr>
          <p:spPr>
            <a:xfrm>
              <a:off x="0" y="41911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0" y="47545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9900"/>
                  </a:solidFill>
                  <a:latin typeface="Franklin Gothic Medium Cond"/>
                </a:rPr>
                <a:t>M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9" name=""/>
          <p:cNvGrpSpPr/>
          <p:nvPr/>
        </p:nvGrpSpPr>
        <p:grpSpPr>
          <a:xfrm>
            <a:off x="0" y="4754520"/>
            <a:ext cx="1600200" cy="992520"/>
            <a:chOff x="0" y="4754520"/>
            <a:chExt cx="1600200" cy="992520"/>
          </a:xfrm>
        </p:grpSpPr>
        <p:sp>
          <p:nvSpPr>
            <p:cNvPr id="1180" name=""/>
            <p:cNvSpPr/>
            <p:nvPr/>
          </p:nvSpPr>
          <p:spPr>
            <a:xfrm>
              <a:off x="0" y="47545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M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0" y="5288040"/>
              <a:ext cx="1600200" cy="45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9900"/>
                  </a:solidFill>
                  <a:latin typeface="Franklin Gothic Medium Cond"/>
                </a:rPr>
                <a:t>ANCOVA-MANC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3" name=""/>
          <p:cNvGrpSpPr/>
          <p:nvPr/>
        </p:nvGrpSpPr>
        <p:grpSpPr>
          <a:xfrm>
            <a:off x="0" y="3657600"/>
            <a:ext cx="1600200" cy="2973600"/>
            <a:chOff x="0" y="3657600"/>
            <a:chExt cx="1600200" cy="2973600"/>
          </a:xfrm>
        </p:grpSpPr>
        <p:sp>
          <p:nvSpPr>
            <p:cNvPr id="1184" name=""/>
            <p:cNvSpPr/>
            <p:nvPr/>
          </p:nvSpPr>
          <p:spPr>
            <a:xfrm>
              <a:off x="0" y="41911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0" y="47545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M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0" y="5288040"/>
              <a:ext cx="1600200" cy="45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ANCOVA-MANC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0" y="58212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Medidas Repetid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0" y="63547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Ejempl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0" y="36576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introduc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0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1600200" y="762120"/>
            <a:ext cx="7543800" cy="6095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4419720" y="1752480"/>
            <a:ext cx="4724280" cy="312444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Franklin Gothic Medium Cond"/>
              </a:rPr>
              <a:t>Análisis d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Franklin Gothic Medium Cond"/>
              </a:rPr>
              <a:t>la Varianz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Franklin Gothic Medium Cond"/>
              </a:rPr>
              <a:t>Aplicaciones 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Franklin Gothic Medium Cond"/>
              </a:rPr>
              <a:t>estudio de da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Franklin Gothic Medium Cond"/>
              </a:rPr>
              <a:t>experimen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1053000" y="223920"/>
            <a:ext cx="415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Franklin Gothic Medium Cond"/>
              </a:rPr>
              <a:t>Investigación de Mercados 2. Tema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00200" y="762120"/>
            <a:ext cx="7543800" cy="6095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58120" y="223920"/>
            <a:ext cx="324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Franklin Gothic Medium Cond"/>
              </a:rPr>
              <a:t>Introducción: Característ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0" y="1143000"/>
            <a:ext cx="6858000" cy="685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0" y="3657600"/>
            <a:ext cx="1600200" cy="2973600"/>
            <a:chOff x="0" y="3657600"/>
            <a:chExt cx="1600200" cy="2973600"/>
          </a:xfrm>
        </p:grpSpPr>
        <p:sp>
          <p:nvSpPr>
            <p:cNvPr id="137" name=""/>
            <p:cNvSpPr/>
            <p:nvPr/>
          </p:nvSpPr>
          <p:spPr>
            <a:xfrm>
              <a:off x="0" y="41911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0" y="47545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M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0" y="5288040"/>
              <a:ext cx="1600200" cy="45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ANCOVA-MANC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0" y="58212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Medidas Repetid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0" y="63547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Ejempl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36576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introduc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0" y="3657600"/>
            <a:ext cx="1600200" cy="27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Franklin Gothic Medium Cond"/>
              </a:rPr>
              <a:t>int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286000" y="2286000"/>
            <a:ext cx="6477120" cy="1981080"/>
            <a:chOff x="2286000" y="2286000"/>
            <a:chExt cx="6477120" cy="1981080"/>
          </a:xfrm>
        </p:grpSpPr>
        <p:sp>
          <p:nvSpPr>
            <p:cNvPr id="145" name=""/>
            <p:cNvSpPr/>
            <p:nvPr/>
          </p:nvSpPr>
          <p:spPr>
            <a:xfrm>
              <a:off x="2286000" y="2286000"/>
              <a:ext cx="2057400" cy="91440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Anális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95680" y="2286000"/>
              <a:ext cx="2057400" cy="91440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Variab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independien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705720" y="2286000"/>
              <a:ext cx="2057400" cy="91440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Variab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dependien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86000" y="3352680"/>
              <a:ext cx="2057400" cy="91440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Análisis 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la Varianz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95680" y="3352680"/>
              <a:ext cx="2057400" cy="91440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Nomina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Franklin Gothic Medium Cond"/>
                </a:rPr>
                <a:t>(salvo covariable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705720" y="3352680"/>
              <a:ext cx="2057400" cy="91440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Métric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286000" y="4419720"/>
            <a:ext cx="6477120" cy="914400"/>
            <a:chOff x="2286000" y="4419720"/>
            <a:chExt cx="6477120" cy="914400"/>
          </a:xfrm>
        </p:grpSpPr>
        <p:sp>
          <p:nvSpPr>
            <p:cNvPr id="152" name=""/>
            <p:cNvSpPr/>
            <p:nvPr/>
          </p:nvSpPr>
          <p:spPr>
            <a:xfrm>
              <a:off x="2286000" y="4419720"/>
              <a:ext cx="2057400" cy="91440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Análisis 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Regres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495680" y="4419720"/>
              <a:ext cx="2057400" cy="91440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Métric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05720" y="4419720"/>
              <a:ext cx="2057400" cy="91440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Mét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Franklin Gothic Medium Cond"/>
                </a:rPr>
                <a:t>(sólo 1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2286000" y="5486400"/>
            <a:ext cx="6477120" cy="914400"/>
            <a:chOff x="2286000" y="5486400"/>
            <a:chExt cx="6477120" cy="914400"/>
          </a:xfrm>
        </p:grpSpPr>
        <p:sp>
          <p:nvSpPr>
            <p:cNvPr id="156" name=""/>
            <p:cNvSpPr/>
            <p:nvPr/>
          </p:nvSpPr>
          <p:spPr>
            <a:xfrm>
              <a:off x="2286000" y="5486400"/>
              <a:ext cx="2057400" cy="91440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Anális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Discrimina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95680" y="5486400"/>
              <a:ext cx="2057400" cy="91440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Métric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705720" y="5486400"/>
              <a:ext cx="2057400" cy="91440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Nomin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Franklin Gothic Medium Cond"/>
                </a:rPr>
                <a:t>(sólo 1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00200" y="762120"/>
            <a:ext cx="7543800" cy="6095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58120" y="223920"/>
            <a:ext cx="324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Franklin Gothic Medium Cond"/>
              </a:rPr>
              <a:t>Introducción: Característ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0" y="1143000"/>
            <a:ext cx="6858000" cy="685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Modal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0" y="3657600"/>
            <a:ext cx="1600200" cy="2973600"/>
            <a:chOff x="0" y="3657600"/>
            <a:chExt cx="1600200" cy="2973600"/>
          </a:xfrm>
        </p:grpSpPr>
        <p:sp>
          <p:nvSpPr>
            <p:cNvPr id="165" name=""/>
            <p:cNvSpPr/>
            <p:nvPr/>
          </p:nvSpPr>
          <p:spPr>
            <a:xfrm>
              <a:off x="0" y="41911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7545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M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288040"/>
              <a:ext cx="1600200" cy="45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ANCOVA-MANC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8212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Medidas Repetid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0" y="63547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Ejempl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0" y="36576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introduc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0" y="3657600"/>
            <a:ext cx="1600200" cy="27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Franklin Gothic Medium Cond"/>
              </a:rPr>
              <a:t>int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4495680" y="2209680"/>
            <a:ext cx="4267440" cy="1676520"/>
            <a:chOff x="4495680" y="2209680"/>
            <a:chExt cx="4267440" cy="1676520"/>
          </a:xfrm>
        </p:grpSpPr>
        <p:sp>
          <p:nvSpPr>
            <p:cNvPr id="173" name=""/>
            <p:cNvSpPr/>
            <p:nvPr/>
          </p:nvSpPr>
          <p:spPr>
            <a:xfrm>
              <a:off x="4495680" y="2209680"/>
              <a:ext cx="4267440" cy="76212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Variables dependien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(métrica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495680" y="3124080"/>
              <a:ext cx="2057400" cy="76212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U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705720" y="3124080"/>
              <a:ext cx="2057400" cy="76212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Vari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4495680" y="4038480"/>
            <a:ext cx="2057400" cy="7621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 Cond"/>
              </a:rPr>
              <a:t>ANO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 Cond"/>
              </a:rPr>
              <a:t>con 1 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705720" y="4038480"/>
            <a:ext cx="2057400" cy="7621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 Cond"/>
              </a:rPr>
              <a:t>MANO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 Cond"/>
              </a:rPr>
              <a:t>con 1 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495680" y="4952880"/>
            <a:ext cx="2057400" cy="7621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 Cond"/>
              </a:rPr>
              <a:t>ANO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 Cond"/>
              </a:rPr>
              <a:t>con k fact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05720" y="4952880"/>
            <a:ext cx="2057400" cy="7621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 Cond"/>
              </a:rPr>
              <a:t>MANO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 Cond"/>
              </a:rPr>
              <a:t>con k fact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286000" y="2209680"/>
            <a:ext cx="2057400" cy="4419720"/>
            <a:chOff x="2286000" y="2209680"/>
            <a:chExt cx="2057400" cy="4419720"/>
          </a:xfrm>
        </p:grpSpPr>
        <p:sp>
          <p:nvSpPr>
            <p:cNvPr id="181" name=""/>
            <p:cNvSpPr/>
            <p:nvPr/>
          </p:nvSpPr>
          <p:spPr>
            <a:xfrm>
              <a:off x="2286000" y="2209680"/>
              <a:ext cx="2057400" cy="167652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Variab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Independien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286000" y="4038480"/>
              <a:ext cx="2057400" cy="76212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1 no mét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6000" y="4952880"/>
              <a:ext cx="2057400" cy="76212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Varias no métric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286000" y="5867280"/>
              <a:ext cx="2057400" cy="76212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No métric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+métric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4495680" y="5867280"/>
            <a:ext cx="2057400" cy="7621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 Cond"/>
              </a:rPr>
              <a:t>ANCO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705720" y="5867280"/>
            <a:ext cx="2057400" cy="7621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 Cond"/>
              </a:rPr>
              <a:t>MANCO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495680" y="4038480"/>
            <a:ext cx="2057400" cy="76212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00"/>
                </a:solidFill>
                <a:latin typeface="Franklin Gothic Medium Cond"/>
              </a:rPr>
              <a:t>ANO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00"/>
                </a:solidFill>
                <a:latin typeface="Franklin Gothic Medium Cond"/>
              </a:rPr>
              <a:t>con 1 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705720" y="4038480"/>
            <a:ext cx="2057400" cy="76212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00"/>
                </a:solidFill>
                <a:latin typeface="Franklin Gothic Medium Cond"/>
              </a:rPr>
              <a:t>MANO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00"/>
                </a:solidFill>
                <a:latin typeface="Franklin Gothic Medium Cond"/>
              </a:rPr>
              <a:t>con 1 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95680" y="4952880"/>
            <a:ext cx="2057400" cy="76212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00"/>
                </a:solidFill>
                <a:latin typeface="Franklin Gothic Medium Cond"/>
              </a:rPr>
              <a:t>ANO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00"/>
                </a:solidFill>
                <a:latin typeface="Franklin Gothic Medium Cond"/>
              </a:rPr>
              <a:t>con k fact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705720" y="4952880"/>
            <a:ext cx="2057400" cy="76212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00"/>
                </a:solidFill>
                <a:latin typeface="Franklin Gothic Medium Cond"/>
              </a:rPr>
              <a:t>MANO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00"/>
                </a:solidFill>
                <a:latin typeface="Franklin Gothic Medium Cond"/>
              </a:rPr>
              <a:t>con k fact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4495680" y="5867280"/>
            <a:ext cx="4267440" cy="762120"/>
            <a:chOff x="4495680" y="5867280"/>
            <a:chExt cx="4267440" cy="762120"/>
          </a:xfrm>
        </p:grpSpPr>
        <p:sp>
          <p:nvSpPr>
            <p:cNvPr id="192" name=""/>
            <p:cNvSpPr/>
            <p:nvPr/>
          </p:nvSpPr>
          <p:spPr>
            <a:xfrm>
              <a:off x="4495680" y="5867280"/>
              <a:ext cx="2057400" cy="76212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00"/>
                  </a:solidFill>
                  <a:latin typeface="Franklin Gothic Medium Cond"/>
                </a:rPr>
                <a:t>ANCOV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705720" y="5867280"/>
              <a:ext cx="2057400" cy="76212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00"/>
                  </a:solidFill>
                  <a:latin typeface="Franklin Gothic Medium Cond"/>
                </a:rPr>
                <a:t>MANCOV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00200" y="762120"/>
            <a:ext cx="7543800" cy="6095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19720" y="1752480"/>
            <a:ext cx="4724280" cy="312444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Medium Cond"/>
              </a:rPr>
              <a:t>2.</a:t>
            </a:r>
            <a:r>
              <a:rPr b="0" lang="en-US" sz="3600" spc="-1" strike="noStrike">
                <a:solidFill>
                  <a:srgbClr val="ff9900"/>
                </a:solidFill>
                <a:latin typeface="Franklin Gothic Medium Cond"/>
              </a:rPr>
              <a:t> ANOV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Franklin Gothic Medium Cond"/>
              </a:rPr>
              <a:t>Análisis univari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Franklin Gothic Medium Cond"/>
              </a:rPr>
              <a:t>de la varianz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53000" y="223920"/>
            <a:ext cx="415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Franklin Gothic Medium Cond"/>
              </a:rPr>
              <a:t>Investigación de Mercados 2. Tema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0" y="3657600"/>
            <a:ext cx="1600200" cy="2973600"/>
            <a:chOff x="0" y="3657600"/>
            <a:chExt cx="1600200" cy="2973600"/>
          </a:xfrm>
        </p:grpSpPr>
        <p:sp>
          <p:nvSpPr>
            <p:cNvPr id="200" name=""/>
            <p:cNvSpPr/>
            <p:nvPr/>
          </p:nvSpPr>
          <p:spPr>
            <a:xfrm>
              <a:off x="0" y="41911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0" y="47545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M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0" y="5288040"/>
              <a:ext cx="1600200" cy="45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ANCOVA-MANC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0" y="58212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Medidas Repetid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0" y="63547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Ejempl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0" y="36576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9900"/>
                  </a:solidFill>
                  <a:latin typeface="Franklin Gothic Medium Cond"/>
                </a:rPr>
                <a:t>introduc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0" y="3657600"/>
            <a:ext cx="1600200" cy="810000"/>
            <a:chOff x="0" y="3657600"/>
            <a:chExt cx="1600200" cy="810000"/>
          </a:xfrm>
        </p:grpSpPr>
        <p:sp>
          <p:nvSpPr>
            <p:cNvPr id="207" name=""/>
            <p:cNvSpPr/>
            <p:nvPr/>
          </p:nvSpPr>
          <p:spPr>
            <a:xfrm>
              <a:off x="0" y="41911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9900"/>
                  </a:solidFill>
                  <a:latin typeface="Franklin Gothic Medium Cond"/>
                </a:rPr>
                <a:t>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0" y="36576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introduc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762120"/>
            <a:ext cx="7543800" cy="6095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80280" y="223920"/>
            <a:ext cx="474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Franklin Gothic Medium Cond"/>
              </a:rPr>
              <a:t>ANOVA: Análisis Univariable de la Varian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1143000"/>
            <a:ext cx="6858000" cy="685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Aplic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0" y="3657600"/>
            <a:ext cx="1600200" cy="2973600"/>
            <a:chOff x="0" y="3657600"/>
            <a:chExt cx="1600200" cy="2973600"/>
          </a:xfrm>
        </p:grpSpPr>
        <p:sp>
          <p:nvSpPr>
            <p:cNvPr id="215" name=""/>
            <p:cNvSpPr/>
            <p:nvPr/>
          </p:nvSpPr>
          <p:spPr>
            <a:xfrm>
              <a:off x="0" y="41911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0" y="47545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M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0" y="5288040"/>
              <a:ext cx="1600200" cy="45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ANCOVA-MANC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0" y="58212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Medidas Repetid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0" y="63547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Ejempl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0" y="36576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9900"/>
                  </a:solidFill>
                  <a:latin typeface="Franklin Gothic Medium Cond"/>
                </a:rPr>
                <a:t>introduc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0" y="3657600"/>
            <a:ext cx="1600200" cy="810000"/>
            <a:chOff x="0" y="3657600"/>
            <a:chExt cx="1600200" cy="810000"/>
          </a:xfrm>
        </p:grpSpPr>
        <p:sp>
          <p:nvSpPr>
            <p:cNvPr id="222" name=""/>
            <p:cNvSpPr/>
            <p:nvPr/>
          </p:nvSpPr>
          <p:spPr>
            <a:xfrm>
              <a:off x="0" y="41911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9900"/>
                  </a:solidFill>
                  <a:latin typeface="Franklin Gothic Medium Cond"/>
                </a:rPr>
                <a:t>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0" y="36576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introduc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2286000" y="1981080"/>
            <a:ext cx="6858000" cy="1371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Franklin Gothic Medium Cond"/>
              </a:rPr>
              <a:t>Medir la significación de la influencia </a:t>
            </a: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que 1 ó varias variables independientes no métricas tienen sobre una variable dependiente mét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86000" y="3505320"/>
            <a:ext cx="6858000" cy="1371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Franklin Gothic Medium Cond"/>
              </a:rPr>
              <a:t>Descubrir qué modalidades </a:t>
            </a: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de las variable independientes provocan efectos signific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0" y="5029200"/>
            <a:ext cx="6858000" cy="1371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En el caso de que existan varias variables independientes, </a:t>
            </a:r>
            <a:r>
              <a:rPr b="0" lang="en-US" sz="2000" spc="-1" strike="noStrike">
                <a:solidFill>
                  <a:srgbClr val="ff9900"/>
                </a:solidFill>
                <a:latin typeface="Franklin Gothic Medium Cond"/>
              </a:rPr>
              <a:t>descubrir si la acción conjunta o interacción de éstas </a:t>
            </a: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provoca efectos signific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762120"/>
            <a:ext cx="7543800" cy="6095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22520" y="223920"/>
            <a:ext cx="697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Franklin Gothic Medium Cond"/>
              </a:rPr>
              <a:t>ANOVA: Análisis Univariable de la Varianza: </a:t>
            </a:r>
            <a:r>
              <a:rPr b="0" lang="en-US" sz="1800" spc="-1" strike="noStrike">
                <a:solidFill>
                  <a:srgbClr val="ff9900"/>
                </a:solidFill>
                <a:latin typeface="Franklin Gothic Medium Cond"/>
              </a:rPr>
              <a:t>ANOVA con 1 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1143000"/>
            <a:ext cx="6858000" cy="685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Mod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0" y="3657600"/>
            <a:ext cx="1600200" cy="2973600"/>
            <a:chOff x="0" y="3657600"/>
            <a:chExt cx="1600200" cy="2973600"/>
          </a:xfrm>
        </p:grpSpPr>
        <p:sp>
          <p:nvSpPr>
            <p:cNvPr id="233" name=""/>
            <p:cNvSpPr/>
            <p:nvPr/>
          </p:nvSpPr>
          <p:spPr>
            <a:xfrm>
              <a:off x="0" y="41911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0" y="47545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M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0" y="5288040"/>
              <a:ext cx="1600200" cy="45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ANCOVA-MANC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0" y="58212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Medidas Repetid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0" y="63547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Ejempl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0" y="36576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9900"/>
                  </a:solidFill>
                  <a:latin typeface="Franklin Gothic Medium Cond"/>
                </a:rPr>
                <a:t>introduc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0" y="3657600"/>
            <a:ext cx="1600200" cy="810000"/>
            <a:chOff x="0" y="3657600"/>
            <a:chExt cx="1600200" cy="810000"/>
          </a:xfrm>
        </p:grpSpPr>
        <p:sp>
          <p:nvSpPr>
            <p:cNvPr id="240" name=""/>
            <p:cNvSpPr/>
            <p:nvPr/>
          </p:nvSpPr>
          <p:spPr>
            <a:xfrm>
              <a:off x="0" y="41911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9900"/>
                  </a:solidFill>
                  <a:latin typeface="Franklin Gothic Medium Cond"/>
                </a:rPr>
                <a:t>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0" y="36576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introduc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2286000" y="2057400"/>
            <a:ext cx="6715440" cy="4572000"/>
            <a:chOff x="2286000" y="2057400"/>
            <a:chExt cx="6715440" cy="4572000"/>
          </a:xfrm>
        </p:grpSpPr>
        <p:sp>
          <p:nvSpPr>
            <p:cNvPr id="243" name=""/>
            <p:cNvSpPr/>
            <p:nvPr/>
          </p:nvSpPr>
          <p:spPr>
            <a:xfrm>
              <a:off x="2286000" y="2057400"/>
              <a:ext cx="6629400" cy="457200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395840" y="6172200"/>
              <a:ext cx="1605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Población (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2666880" y="3200400"/>
            <a:ext cx="5867640" cy="106668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 Cond"/>
              </a:rPr>
              <a:t>Muestra (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2286000" y="2057400"/>
            <a:ext cx="6629400" cy="4572000"/>
            <a:chOff x="2286000" y="2057400"/>
            <a:chExt cx="6629400" cy="4572000"/>
          </a:xfrm>
        </p:grpSpPr>
        <p:sp>
          <p:nvSpPr>
            <p:cNvPr id="247" name=""/>
            <p:cNvSpPr/>
            <p:nvPr/>
          </p:nvSpPr>
          <p:spPr>
            <a:xfrm>
              <a:off x="2286000" y="2057400"/>
              <a:ext cx="6629400" cy="4572000"/>
            </a:xfrm>
            <a:prstGeom prst="rect">
              <a:avLst/>
            </a:prstGeom>
            <a:solidFill>
              <a:srgbClr val="808080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666880" y="3214800"/>
              <a:ext cx="5867640" cy="106668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Medidas de la variable dependiente ( y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Franklin Gothic Medium Cond"/>
                </a:rPr>
                <a:t>i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5791320" y="4952880"/>
            <a:ext cx="2743200" cy="1371600"/>
            <a:chOff x="5791320" y="4952880"/>
            <a:chExt cx="2743200" cy="1371600"/>
          </a:xfrm>
        </p:grpSpPr>
        <p:sp>
          <p:nvSpPr>
            <p:cNvPr id="250" name=""/>
            <p:cNvSpPr/>
            <p:nvPr/>
          </p:nvSpPr>
          <p:spPr>
            <a:xfrm>
              <a:off x="5791320" y="4952880"/>
              <a:ext cx="2743200" cy="1371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1" name=""/>
                <p:cNvSpPr txBox="1"/>
                <p:nvPr/>
              </p:nvSpPr>
              <p:spPr>
                <a:xfrm>
                  <a:off x="6135840" y="5175360"/>
                  <a:ext cx="2066760" cy="91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rPr>
                          <m:lit/>
                          <m:nor/>
                        </m:rPr>
                        <m:t xml:space="preserve">arianza 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r>
                                <m:t xml:space="preserve">μ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52" name=""/>
          <p:cNvGrpSpPr/>
          <p:nvPr/>
        </p:nvGrpSpPr>
        <p:grpSpPr>
          <a:xfrm>
            <a:off x="2666880" y="4952880"/>
            <a:ext cx="2743200" cy="1371600"/>
            <a:chOff x="2666880" y="4952880"/>
            <a:chExt cx="2743200" cy="1371600"/>
          </a:xfrm>
        </p:grpSpPr>
        <p:sp>
          <p:nvSpPr>
            <p:cNvPr id="253" name=""/>
            <p:cNvSpPr/>
            <p:nvPr/>
          </p:nvSpPr>
          <p:spPr>
            <a:xfrm>
              <a:off x="2666880" y="4952880"/>
              <a:ext cx="2743200" cy="1371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399480" y="5500800"/>
              <a:ext cx="12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Media =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55" name=""/>
          <p:cNvCxnSpPr>
            <a:stCxn id="248" idx="2"/>
            <a:endCxn id="250" idx="0"/>
          </p:cNvCxnSpPr>
          <p:nvPr/>
        </p:nvCxnSpPr>
        <p:spPr>
          <a:xfrm flipH="1" rot="16200000">
            <a:off x="6059520" y="3836160"/>
            <a:ext cx="643320" cy="1562760"/>
          </a:xfrm>
          <a:prstGeom prst="bentConnector3">
            <a:avLst>
              <a:gd name="adj1" fmla="val 49888"/>
            </a:avLst>
          </a:prstGeom>
          <a:ln w="28440">
            <a:solidFill>
              <a:srgbClr val="000000"/>
            </a:solidFill>
            <a:miter/>
            <a:tailEnd len="med" type="triangle" w="sm"/>
          </a:ln>
        </p:spPr>
      </p:cxnSp>
      <p:cxnSp>
        <p:nvCxnSpPr>
          <p:cNvPr id="256" name=""/>
          <p:cNvCxnSpPr>
            <a:stCxn id="248" idx="2"/>
            <a:endCxn id="253" idx="0"/>
          </p:cNvCxnSpPr>
          <p:nvPr/>
        </p:nvCxnSpPr>
        <p:spPr>
          <a:xfrm rot="5400000">
            <a:off x="4497840" y="3836160"/>
            <a:ext cx="643320" cy="1563120"/>
          </a:xfrm>
          <a:prstGeom prst="bentConnector3">
            <a:avLst>
              <a:gd name="adj1" fmla="val 49888"/>
            </a:avLst>
          </a:prstGeom>
          <a:ln w="28440">
            <a:solidFill>
              <a:srgbClr val="000000"/>
            </a:solidFill>
            <a:miter/>
            <a:tailEnd len="med" type="triangle" w="sm"/>
          </a:ln>
        </p:spPr>
      </p:cxn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03:29:02Z</dcterms:created>
  <dc:creator>Homework</dc:creator>
  <dc:description/>
  <dc:language>en-US</dc:language>
  <cp:lastModifiedBy>Despacho A207</cp:lastModifiedBy>
  <dcterms:modified xsi:type="dcterms:W3CDTF">2000-05-12T15:46:48Z</dcterms:modified>
  <cp:revision>232</cp:revision>
  <dc:subject/>
  <dc:title>Sin título de diapositiva</dc:title>
</cp:coreProperties>
</file>